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548-6032-4E75-A21A-ABB8CF68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8759-27C1-457E-A5F2-73420481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CCD-1C77-439C-BA53-35B9A6BE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D542-2788-466E-85A6-7E723CE4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8045-6EF9-451D-BE0E-C9F7BB90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FD6F-1761-4948-8258-CCDC903D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3619-3EF2-4DAA-A539-F218BEEF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F12B-1F5C-4B7C-950A-96980F7A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AA8-139A-4CAD-A8CE-8E87E527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7DCD-0A42-446F-AA91-3B0805E1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C18A-2EF2-43A1-BD52-2D28BE9F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FA9D-B8F4-41BB-B33D-230058D0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E642-3D48-42BF-B03D-169657055F7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romitheus.gov.gr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ΥΜΠΛΗΡΩΣΗ ΚΑΙ ΥΠΟΒΟΛΗ ΤΟΥ ΕΕ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1341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Συνδεθείτε στη νέα </a:t>
            </a: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ηλεκτρονική υπηρεσία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mitheus ESDP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μέσω της ηλεκτρονικής διεύθυνσης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promitheus.gov.g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900000" y="1838160"/>
            <a:ext cx="68374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η συνέχεια επιλέγετε Ελληνικ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31708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οίγει η ακόλουθη σελίδα στην οποία κάνετε τις εξής επιλογέ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0" y="1628640"/>
            <a:ext cx="9072720" cy="3781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3348000" y="5373720"/>
            <a:ext cx="22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Επιλέγετε δηλαδή το αρχείο ΕΕΕΣ ή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espd xml, </a:t>
            </a: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δηλαδή σε μορφή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xml </a:t>
            </a: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που υπάρχει στο σύστημα ΕΣΗΔΗΣ και έχει αναρτήσει η ΠΕ Φλώρινας στον διαγωνισμό με αριθμό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2112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ύνταξη Ευρωπαϊκού Ενιαίου Εγγράφου Σύμβασης - ΕΕ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Στα στοιχεία δημοσίευσης οι οικονομικοί φορείς θα συμπληρώσουν  μόνο το τρίτο πεδίο «Δημοσίευση σε εθνικό επίπεδο» δηλαδή θα συμπληρώσουν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romitheus.gov.g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23PROC013256463)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τον αριθμό δηλαδή της ανάρτησης από την Αναθέτουσα Αρχή της διακήρυξης στο ΕΣΗΔΗ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82072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4000" y="1268280"/>
            <a:ext cx="90900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1106640"/>
            <a:ext cx="889308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ήξ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50920" y="1704960"/>
            <a:ext cx="84978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60520" y="1197000"/>
            <a:ext cx="8583480" cy="3044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348000" y="4724280"/>
            <a:ext cx="3200400" cy="12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ΣΤΗ ΣΥΝΕΧΕΙΑ ΑΠΟΘΗΚΕΥΕΤΕ ΤΟ ΕΝΤΥΠΟ ΣΤΟΝ ΥΠΟΛΟΓΙΣΤΗ ΣΑΣ ΚΑΙ ΤΟ ΥΠΟΓΡΑΦΕΤΕ ΨΗΦΙΑΚΑ. ΣΤΗ ΣΥΝΕΧΕΙΑ ΤΟ ΕΠΙΣΥΝΑΠΤΕΤΕ ΣΤΟΝ ΗΛΕΚΤΡΟΝΙΚΟ ΔΙΑΓΩΝΙΣΜΟ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12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21T11:27:17Z</dcterms:created>
  <dc:creator>ckonstantinidis</dc:creator>
  <dc:description/>
  <dc:language>en-US</dc:language>
  <cp:lastModifiedBy>ΧΡΗΣΤΟΣ ΚΩΝΣΤΑΝΤΙΝΙΔΗΣ2</cp:lastModifiedBy>
  <dcterms:modified xsi:type="dcterms:W3CDTF">2023-08-14T08:30:51Z</dcterms:modified>
  <cp:revision>15</cp:revision>
  <dc:subject/>
  <dc:title>ΣΥΜΠΛΗΡΩΣΗ ΚΑΙ ΥΠΟΒΟΛΗ ΤΟΥ ΕΕΕΣ</dc:title>
</cp:coreProperties>
</file>