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BB5-AD6A-448F-A1B5-99ACD294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9C0-BA5B-4F47-ACFC-F751C3A2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860-1220-4DAB-BC39-BE3C4218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4EE-E468-4302-AEF3-116732D8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FF1-8A1A-4ADD-ACDC-CDC5E394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1AC-32EB-44C6-9F57-B77FF73C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110-6BE2-4A91-A707-7C8A50DB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637-E49B-4F66-BF59-B245C2DB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E176-D767-4BC6-8991-0C7EB8C3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B375-5CDD-42F4-9A0E-7E12DDFF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294-7BCF-42D9-9775-51098A51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F4BA-E87C-44E4-AC08-B18BAF8C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2ED4-F481-4C83-9C6A-20A3443E993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mitheus.gov.gr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ΥΜΠΛΗΡΩΣΗ ΚΑΙ ΥΠΟΒΟΛΗ ΤΟΥ ΕΕ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1341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υνδεθείτε στη νέα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ηλεκτρονική υπηρεσία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mitheus ESPD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μέσω της ηλεκτρονικής διεύθυνσης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promitheus.gov.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Εικόνα 1" descr=""/>
          <p:cNvPicPr/>
          <p:nvPr/>
        </p:nvPicPr>
        <p:blipFill>
          <a:blip r:embed="rId1"/>
          <a:stretch/>
        </p:blipFill>
        <p:spPr>
          <a:xfrm>
            <a:off x="609480" y="1557360"/>
            <a:ext cx="76345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η συνέχεια επιλέγετε Ελλην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3170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οίγει η ακόλουθη σελίδα στην οποία κάνετε τις εξής επιλογέ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0" y="1628640"/>
            <a:ext cx="9072720" cy="3781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3348000" y="5373720"/>
            <a:ext cx="22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Επιλέγετε δηλαδή το αρχείο ΕΕΕΣ 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espd xml,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δηλαδή σε μορφ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xml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που υπάρχει στο σύστημα ΕΣΗΔΗΣ και έχει αναρτήσει η ΠΕ Φλώρινας στον διαγωνισμό με αριθμό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2111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ύνταξη Ευρωπαϊκού Ενιαίου Εγγράφου Σύμβασης - ΕΕ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Στα στοιχεία δημοσίευσης οι οικονομικοί φορείς θα συμπληρώσουν  μόνο το τρίτο πεδίο «Δημοσίευση σε εθνικό επίπεδο» δηλαδή θα συμπληρώσουν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romitheus.gov.g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l-GR" sz="1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PROC</a:t>
            </a:r>
            <a:r>
              <a:rPr b="0" lang="el-GR" sz="1200" spc="-1" strike="noStrike">
                <a:solidFill>
                  <a:srgbClr val="ff0066"/>
                </a:solidFill>
                <a:latin typeface="Arial"/>
              </a:rPr>
              <a:t>0132731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τον αριθμό δηλαδή της ανάρτησης από την Αναθέτουσα Αρχή της διακήρυξης στο ΕΣΗΔΗ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468360" y="2421000"/>
            <a:ext cx="818496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4000" y="1268280"/>
            <a:ext cx="9090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1106640"/>
            <a:ext cx="88930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ήξ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50920" y="1704960"/>
            <a:ext cx="84978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60520" y="1197000"/>
            <a:ext cx="8583480" cy="3044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348000" y="4724280"/>
            <a:ext cx="320040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ΣΤΗ ΣΥΝΕΧΕΙΑ ΑΠΟΘΗΚΕΥΕΤΕ ΤΟ ΕΝΤΥΠΟ ΣΤΟΝ ΥΠΟΛΟΓΙΣΤΗ ΣΑΣ ΚΑΙ ΤΟ ΥΠΟΓΡΑΦΕΤΕ ΨΗΦΙΑΚΑ. ΣΤΗ ΣΥΝΕΧΕΙΑ ΤΟ ΕΠΙΣΥΝΑΠΤΕΤΕ ΣΤΟΝ ΗΛΕΚΤΡΟΝΙΚΟ ΔΙΑΓΩΝΙΣΜΟ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11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1T11:27:17Z</dcterms:created>
  <dc:creator>ckonstantinidis</dc:creator>
  <dc:description/>
  <dc:language>en-US</dc:language>
  <cp:lastModifiedBy>ΧΡΗΣΤΟΣ ΚΩΝΣΤΑΝΤΙΝΙΔΗΣ2</cp:lastModifiedBy>
  <dcterms:modified xsi:type="dcterms:W3CDTF">2023-08-18T12:42:40Z</dcterms:modified>
  <cp:revision>19</cp:revision>
  <dc:subject/>
  <dc:title>ΣΥΜΠΛΗΡΩΣΗ ΚΑΙ ΥΠΟΒΟΛΗ ΤΟΥ ΕΕΕΣ</dc:title>
</cp:coreProperties>
</file>