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23B8-7F8A-4579-AC19-061D29EA8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DE9C-F133-430B-BEF4-7126FDFB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2007-EF0A-40DF-92CA-25E393851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2284-47FA-476F-B773-DE6CC670C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EB21-74BE-4822-A563-E2172D6E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BB75-6679-4327-B205-EDECDCE2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AD44-1D39-43D5-B575-6FCBE5E6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5F8A-2831-464B-89A7-0EC49A48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6AB4-E4F0-4598-99C9-EA6318AA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47EB-E8FE-4B32-BE82-CFFBB80D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1B66-0E03-41CD-A936-D815468F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071A-CDA1-49D2-9B92-C94C7EDE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64BE-8B55-4E24-B014-14927BFFE121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romitheus.gov.gr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ΣΥΜΠΛΗΡΩΣΗ ΚΑΙ ΥΠΟΒΟΛΗ ΤΟΥ ΕΕΕ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8920" y="1341000"/>
            <a:ext cx="8496360" cy="3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Συνδεθείτε στη νέα </a:t>
            </a:r>
            <a:r>
              <a:rPr b="1" lang="el-GR" sz="1000" spc="-1" strike="noStrike">
                <a:solidFill>
                  <a:srgbClr val="000000"/>
                </a:solidFill>
                <a:latin typeface="Arial"/>
              </a:rPr>
              <a:t>ηλεκτρονική υπηρεσία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mitheus ESPDi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μέσω της ηλεκτρονικής διεύθυνσης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promitheus.gov.g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611280" y="3068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Εικόνα 1" descr=""/>
          <p:cNvPicPr/>
          <p:nvPr/>
        </p:nvPicPr>
        <p:blipFill>
          <a:blip r:embed="rId1"/>
          <a:stretch/>
        </p:blipFill>
        <p:spPr>
          <a:xfrm>
            <a:off x="609480" y="1557360"/>
            <a:ext cx="763452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78920" y="333000"/>
            <a:ext cx="8496360" cy="3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τη συνέχεια επιλέγετε Ελληνικ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611280" y="3068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31708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78920" y="333000"/>
            <a:ext cx="8496360" cy="3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νοίγει η ακόλουθη σελίδα στην οποία κάνετε τις εξής επιλογέ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11280" y="3068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0" y="1628640"/>
            <a:ext cx="9072720" cy="37814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3348000" y="5373720"/>
            <a:ext cx="2232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ff0066"/>
                </a:solidFill>
                <a:latin typeface="Arial"/>
              </a:rPr>
              <a:t>Επιλέγετε δηλαδή το αρχείο ΕΕΕΣ ή </a:t>
            </a:r>
            <a:r>
              <a:rPr b="0" lang="en-US" sz="1000" spc="-1" strike="noStrike">
                <a:solidFill>
                  <a:srgbClr val="ff0066"/>
                </a:solidFill>
                <a:latin typeface="Arial"/>
              </a:rPr>
              <a:t>espd xml, </a:t>
            </a:r>
            <a:r>
              <a:rPr b="0" lang="el-GR" sz="1000" spc="-1" strike="noStrike">
                <a:solidFill>
                  <a:srgbClr val="ff0066"/>
                </a:solidFill>
                <a:latin typeface="Arial"/>
              </a:rPr>
              <a:t>δηλαδή σε μορφή </a:t>
            </a:r>
            <a:r>
              <a:rPr b="0" lang="en-US" sz="1000" spc="-1" strike="noStrike">
                <a:solidFill>
                  <a:srgbClr val="ff0066"/>
                </a:solidFill>
                <a:latin typeface="Arial"/>
              </a:rPr>
              <a:t>xml </a:t>
            </a:r>
            <a:r>
              <a:rPr b="0" lang="el-GR" sz="1000" spc="-1" strike="noStrike">
                <a:solidFill>
                  <a:srgbClr val="ff0066"/>
                </a:solidFill>
                <a:latin typeface="Arial"/>
              </a:rPr>
              <a:t>που υπάρχει στο σύστημα ΕΣΗΔΗΣ και έχει αναρτήσει η ΠΕ Φλώρινας στον διαγωνισμό με αριθμό 2161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ύνταξη Ευρωπαϊκού Ενιαίου Εγγράφου Σύμβασης - ΕΕΕ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Στα στοιχεία δημοσίευσης οι οικονομικοί φορείς θα συμπληρώσουν  μόνο το τρίτο πεδίο «Δημοσίευση σε εθνικό επίπεδο» δηλαδή θα συμπληρώσουν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promitheus.gov.g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0" lang="el-GR" sz="12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PROC0</a:t>
            </a:r>
            <a:r>
              <a:rPr b="0" lang="el-GR" sz="1200" spc="-1" strike="noStrike">
                <a:solidFill>
                  <a:srgbClr val="ff0066"/>
                </a:solidFill>
                <a:latin typeface="Arial"/>
              </a:rPr>
              <a:t>1327317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 τον αριθμό δηλαδή της ανάρτησης από την Αναθέτουσα Αρχή της διακήρυξης στο ΕΣΗΔΗ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2"/>
          <a:stretch/>
        </p:blipFill>
        <p:spPr>
          <a:xfrm>
            <a:off x="468360" y="2421000"/>
            <a:ext cx="818496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611280" y="3068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54000" y="1268280"/>
            <a:ext cx="909000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611280" y="3068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0" y="1106640"/>
            <a:ext cx="889308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Λήξ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250920" y="1704960"/>
            <a:ext cx="849780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560520" y="1197000"/>
            <a:ext cx="8583480" cy="30448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3348000" y="4724280"/>
            <a:ext cx="3200400" cy="12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ΣΤΗ ΣΥΝΕΧΕΙΑ ΑΠΟΘΗΚΕΥΕΤΕ ΤΟ ΕΝΤΥΠΟ ΣΤΟΝ ΥΠΟΛΟΓΙΣΤΗ ΣΑΣ ΚΑΙ ΤΟ ΥΠΟΓΡΑΦΕΤΕ ΨΗΦΙΑΚΑ. ΣΤΗ ΣΥΝΕΧΕΙΑ ΤΟ ΕΠΙΣΥΝΑΠΤΕΤΕ ΣΤΟΝ ΗΛΕΚΤΡΟΝΙΚΟ ΔΙΑΓΩΝΙΣΜΟ 2161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21T11:27:17Z</dcterms:created>
  <dc:creator>ckonstantinidis</dc:creator>
  <dc:description/>
  <dc:language>en-US</dc:language>
  <cp:lastModifiedBy>ΧΡΗΣΤΟΣ ΚΩΝΣΤΑΝΤΙΝΙΔΗΣ2</cp:lastModifiedBy>
  <dcterms:modified xsi:type="dcterms:W3CDTF">2023-08-18T13:21:44Z</dcterms:modified>
  <cp:revision>18</cp:revision>
  <dc:subject/>
  <dc:title>ΣΥΜΠΛΗΡΩΣΗ ΚΑΙ ΥΠΟΒΟΛΗ ΤΟΥ ΕΕΕΣ</dc:title>
</cp:coreProperties>
</file>