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291-F711-4869-9725-D0A5DF4B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B3D-7954-4C86-A003-0DD88A8F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C41-EA11-4D7D-9DBE-93F92BFC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B05-CBA6-4A22-BE60-28115E8B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1B6-2F02-458B-814F-A9360736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2F3-C1B4-41DC-8E66-C1365492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895-5ECD-4854-83CA-03D6E076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4B3-EC31-4952-AF4C-02B9EE2E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1CF-AD3A-4C0D-9F29-A652C599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92F-DAD3-463F-897C-2D9AC553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C07-48F8-480D-ADAB-13FF271E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76C-BC86-4F2E-A772-E0EB905C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FFF-E9CF-44EF-88FD-516973494D2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itheus.gov.gr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ΥΜΠΛΗΡΩΣΗ ΚΑΙ ΥΠΟΒΟΛΗ ΤΟΥ ΕΕ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Συνδεθείτε στη νέα </a:t>
            </a: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ηλεκτρονική υπηρεσία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mitheus ESPDi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μέσω της ηλεκτρονικής διεύθυνσης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romitheus.gov.g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Εικόνα 1" descr=""/>
          <p:cNvPicPr/>
          <p:nvPr/>
        </p:nvPicPr>
        <p:blipFill>
          <a:blip r:embed="rId1"/>
          <a:stretch/>
        </p:blipFill>
        <p:spPr>
          <a:xfrm>
            <a:off x="609480" y="1557360"/>
            <a:ext cx="76345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η συνέχεια επιλέγετε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317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8920" y="333000"/>
            <a:ext cx="849636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οίγει η ακόλουθη σελίδα στην οποία κάνετε τις εξής επιλογέ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9072720" cy="3781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3348000" y="5373720"/>
            <a:ext cx="22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Επιλέγετε δηλαδή το αρχείο ΕΕΕΣ 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espd xml,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δηλαδή σε μορφή </a:t>
            </a:r>
            <a:r>
              <a:rPr b="0" lang="en-US" sz="1000" spc="-1" strike="noStrike">
                <a:solidFill>
                  <a:srgbClr val="ff0066"/>
                </a:solidFill>
                <a:latin typeface="Arial"/>
              </a:rPr>
              <a:t>xml </a:t>
            </a:r>
            <a:r>
              <a:rPr b="0" lang="el-GR" sz="1000" spc="-1" strike="noStrike">
                <a:solidFill>
                  <a:srgbClr val="ff0066"/>
                </a:solidFill>
                <a:latin typeface="Arial"/>
              </a:rPr>
              <a:t>που υπάρχει στο σύστημα ΕΣΗΔΗΣ και έχει αναρτήσει η ΠΕ Φλώρινας στον διαγωνισμό με αριθμό 1899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ύνταξη Ευρωπαϊκού Ενιαίου Εγγράφου Σύμβασης - ΕΕ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τα στοιχεία δημοσίευσης οι οικονομικοί φορείς θα συμπληρώσουν  μόνο το τρίτο πεδίο «Δημοσίευση σε εθνικό επίπεδο» δηλαδή θα συμπληρώσουν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romitheus.gov.g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l-GR" sz="1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PROC012622339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 τον αριθμό δηλαδή της ανάρτησης από την Αναθέτουσα Αρχή της διακήρυξης στο ΕΣΗΔΗ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81849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4000" y="1268280"/>
            <a:ext cx="909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11280" y="306864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1106640"/>
            <a:ext cx="889308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ή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50920" y="1704960"/>
            <a:ext cx="849780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60520" y="1197000"/>
            <a:ext cx="8583480" cy="304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348000" y="4724280"/>
            <a:ext cx="320040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ΣΤΗ ΣΥΝΕΧΕΙΑ ΑΠΟΘΗΚΕΥΕΤΕ ΤΟ ΕΝΤΥΠΟ ΣΤΟΝ ΥΠΟΛΟΓΙΣΤΗ ΣΑΣ ΚΑΙ ΤΟ ΥΠΟΓΡΑΦΕΤΕ ΨΗΦΙΑΚΑ. ΣΤΗ ΣΥΝΕΧΕΙΑ ΤΟ ΕΠΙΣΥΝΑΠΤΕΤΕ ΣΤΟΝ ΗΛΕΚΤΡΟΝΙΚΟ ΔΙΑΓΩΝΙΣΜΟ 189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1T11:27:17Z</dcterms:created>
  <dc:creator>ckonstantinidis</dc:creator>
  <dc:description/>
  <dc:language>en-US</dc:language>
  <cp:lastModifiedBy>ΧΡΗΣΤΟΣ ΚΩΝΣΤΑΝΤΙΝΙΔΗΣ2</cp:lastModifiedBy>
  <dcterms:modified xsi:type="dcterms:W3CDTF">2023-05-08T09:39:24Z</dcterms:modified>
  <cp:revision>17</cp:revision>
  <dc:subject/>
  <dc:title>ΣΥΜΠΛΗΡΩΣΗ ΚΑΙ ΥΠΟΒΟΛΗ ΤΟΥ ΕΕΕΣ</dc:title>
</cp:coreProperties>
</file>