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CF7C-13BB-461F-A6D3-BB35EDC4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78A0-FB92-4787-9089-76EB03C1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DDB-D25A-447E-A886-F489BF67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E98B-B1EF-4D4B-A377-0CAD060E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6D31-72FF-4867-A41D-1A481F81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3C3-BC07-470A-8338-18A8749E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74A-8FC0-49E8-A283-AD3F249C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5EE-5CA0-489B-A658-1F6C720B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3CE0-C250-44A4-8F73-44E35F04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F4FD-8C50-4B81-B529-1AC02ECE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80B8-B197-4D91-AE8E-11080551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BF43-AC13-4973-A3AC-CF68ACDE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FB3C-598B-42A8-AD43-17A77B5A608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ΥΜΠΛΗΡΩΣΗ ΚΑΙ ΥΠΟΒΟΛΗ ΤΟΥ ΕΕ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1341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Συνδεθείτε στη νέα 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ηλεκτρονική υπηρεσία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mitheus ESDP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μέσω της ηλεκτρονικής διεύθυνσης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promitheus.gov.g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900000" y="1838160"/>
            <a:ext cx="68374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η συνέχεια επιλέγετε Ελληνικ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31708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οίγει η ακόλουθη σελίδα στην οποία κάνετε τις εξής επιλογέ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0" y="1628640"/>
            <a:ext cx="9072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54000" y="1268280"/>
            <a:ext cx="90900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0" y="1106640"/>
            <a:ext cx="88930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ήξ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50920" y="1704960"/>
            <a:ext cx="84978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560520" y="1197000"/>
            <a:ext cx="8583480" cy="3044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3348000" y="4724280"/>
            <a:ext cx="3200400" cy="12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ΣΤΗ ΣΥΝΕΧΕΙΑ ΑΠΟΘΗΚΕΥΕΤΕ ΤΟ ΕΝΤΥΠΟ ΣΤΟΝ ΥΠΟΛΟΓΙΣΤΗ ΣΑΣ ΚΑΙ ΤΟ ΥΠΟΓΡΑΦΕΤΕ ΨΗΦΙΑΚΑ. ΣΤΗ ΣΥΝΕΧΕΙΑ ΤΟ ΕΠΙΣΥΝΑΠΤΕΤΕ ΣΤΟΝ ΗΛΕΚΤΡΟΝΙΚΟ ΔΙΑΓΩΝΙΣΜΟ </a:t>
            </a:r>
            <a:r>
              <a:rPr b="1" lang="el-GR" sz="1200" spc="-1" strike="noStrike">
                <a:solidFill>
                  <a:srgbClr val="99cc00"/>
                </a:solidFill>
                <a:latin typeface="Arial"/>
              </a:rPr>
              <a:t>1852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1T11:27:17Z</dcterms:created>
  <dc:creator>ckonstantinidis</dc:creator>
  <dc:description/>
  <dc:language>en-US</dc:language>
  <cp:lastModifiedBy>ΧΡΗΣΤΟΣ ΚΩΝΣΤΑΝΤΙΝΙΔΗΣ2</cp:lastModifiedBy>
  <dcterms:modified xsi:type="dcterms:W3CDTF">2023-03-16T13:41:54Z</dcterms:modified>
  <cp:revision>6</cp:revision>
  <dc:subject/>
  <dc:title>ΣΥΜΠΛΗΡΩΣΗ ΚΑΙ ΥΠΟΒΟΛΗ ΤΟΥ ΕΕΕΣ</dc:title>
</cp:coreProperties>
</file>