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6E1-980B-4510-8DB8-E0E1580A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712-5583-4FFE-BED2-0001992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B5C-F0A4-4927-A237-5EF163DE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540-3E29-4AB4-B111-2FB796DB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091-B71E-4AC9-A628-1E591E0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CA2-6027-48FC-812C-4B9D0C92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099-EDA1-43F6-B512-8FCF89E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B5C-038F-4930-8117-042D9E15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10F-EE0C-46DD-A767-1B1D75AD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AB1-F07B-400F-AA45-D27461B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F55-B151-4E46-8C04-535D21D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4B3-E1C2-4E83-8B16-9E199E5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942-F2EF-4EAD-BB61-E7488BA3C28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1718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2PROC011226201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207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8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ckonstantinidis</cp:lastModifiedBy>
  <dcterms:modified xsi:type="dcterms:W3CDTF">2022-09-12T11:19:56Z</dcterms:modified>
  <cp:revision>13</cp:revision>
  <dc:subject/>
  <dc:title>ΣΥΜΠΛΗΡΩΣΗ ΚΑΙ ΥΠΟΒΟΛΗ ΤΟΥ ΕΕΕΣ</dc:title>
</cp:coreProperties>
</file>