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F73-2FD4-4A43-B235-F333B278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A41-8576-4143-9EE3-CA96FAB8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8C6-C6F2-43BC-9869-11D8AF2E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427-3AA8-4978-BBA4-9F57CFC1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84C-9E06-45B7-B13F-D1098B91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A2B-24A2-4330-B5A6-3BFFA9D3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262-AB22-4B38-A066-FB5AFC78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4C9-788D-4C6E-93E5-6B0F7D61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43E-8C4C-4618-8803-C4DF6F25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D63-8671-47CA-B813-254C036F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BAA-8FF0-437A-9E2D-C3B41532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668-BA9E-40BF-9D55-5B940CEC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41D3-8AF4-4E57-8F69-6578F2FE1B6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mitheus.gov.g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ΣΥΜΠΛΗΡΩΣΗ ΚΑΙ ΥΠΟΒΟΛΗ ΤΟΥ ΕΕ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341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δεθείτε στη νέα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ηλεκτρονική υπηρεσί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itheus ESDP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έσω της ηλεκτρονικής διεύθυνση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romitheus.gov.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838160"/>
            <a:ext cx="6837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η συνέχεια επιλέγετε Ελλην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17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νοίγει η ακόλουθη σελίδα στην οποία κάνετε τις εξής επιλογέ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072720" cy="378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48000" y="5373720"/>
            <a:ext cx="22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Επιλέγετε δηλαδή το αρχείο ΕΕΕΣ 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espd xml,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δηλαδή σε μορφ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xml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που υπάρχει στο σύστημα ΕΣΗΔΗΣ και έχει αναρτήσει η ΠΕ Φλώρινας στον διαγωνισμό με αριθμό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1714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Σύνταξη Ευρωπαϊκού Ενιαίου Εγγράφου Σύμβασης - ΕΕ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τα στοιχεία δημοσίευσης οι οικονομικοί φορείς θα συμπληρώσουν  μόνο το τρίτο πεδίο «Δημοσίευση σε εθνικό επίπεδο» δηλαδή θα συμπληρώσουν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romitheus.gov.g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22PROC011233409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ν αριθμό δηλαδή της ανάρτησης από την Αναθέτουσα Αρχή της διακήρυξης στο ΕΣΗΔ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82072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000" y="1268280"/>
            <a:ext cx="909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06640"/>
            <a:ext cx="88930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ήξ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704960"/>
            <a:ext cx="849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0520" y="1197000"/>
            <a:ext cx="8583480" cy="3044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8000" y="4724280"/>
            <a:ext cx="3200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ΤΗ ΣΥΝΕΧΕΙΑ ΑΠΟΘΗΚΕΥΕΤΕ ΤΟ ΕΝΤΥΠΟ ΣΤΟΝ ΥΠΟΛΟΓΙΣΤΗ ΣΑΣ ΚΑΙ ΤΟ ΥΠΟΓΡΑΦΕΤΕ ΨΗΦΙΑΚΑ. ΣΤΗ ΣΥΝΕΧΕΙΑ ΤΟ ΕΠΙΣΥΝΑΠΤΕΤΕ ΣΤΟΝ ΗΛΕΚΤΡΟΝΙΚΟ ΔΙΑΓΩΝΙΣΜΟ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14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1T11:27:17Z</dcterms:created>
  <dc:creator>ckonstantinidis</dc:creator>
  <dc:description/>
  <dc:language>en-US</dc:language>
  <cp:lastModifiedBy>ckonstantinidis</cp:lastModifiedBy>
  <dcterms:modified xsi:type="dcterms:W3CDTF">2022-09-13T11:34:05Z</dcterms:modified>
  <cp:revision>14</cp:revision>
  <dc:subject/>
  <dc:title>ΣΥΜΠΛΗΡΩΣΗ ΚΑΙ ΥΠΟΒΟΛΗ ΤΟΥ ΕΕΕΣ</dc:title>
</cp:coreProperties>
</file>