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C78C-5F77-4228-96BA-09433A3C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869-E38C-4CB8-95FA-C19787C8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11A-A35B-42DF-976B-A1460288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D5F-E04B-4CCD-9B3C-3966C267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861-7A6C-45D9-89B2-E0B76788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1BE-4715-4550-B557-44B5F0E0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6A7-D14F-4373-9D90-931B8120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5F9-3CF7-4D29-BA1D-40C1F9D3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D593-49FE-4600-8F57-4942FC5D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6FD6-D1E2-4DDE-BEC6-EDDF0850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DC2-2DA4-4C7E-BCA6-3E4CFFDC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4BF-586D-4920-AB3E-55AFEB48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5823-6FB7-48DF-93D2-93FB9E444B0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omitheus.gov.gr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ΣΥΜΠΛΗΡΩΣΗ ΚΑΙ ΥΠΟΒΟΛΗ ΤΟΥ ΕΕ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1341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Συνδεθείτε στη νέα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ηλεκτρονική υπηρεσία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mitheus ESDP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μέσω της ηλεκτρονικής διεύθυνσης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promitheus.gov.g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1838160"/>
            <a:ext cx="68374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η συνέχεια επιλέγετε Ελλην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3170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νοίγει η ακόλουθη σελίδα στην οποία κάνετε τις εξής επιλογέ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072720" cy="378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348000" y="5373720"/>
            <a:ext cx="22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Επιλέγετε δηλαδή το αρχείο ΕΕΕΣ ή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espd xml, </a:t>
            </a: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δηλαδή σε μορφή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xml </a:t>
            </a: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που υπάρχει στο σύστημα ΕΣΗΔΗΣ και έχει αναρτήσει η ΠΕ Φλώρινας στον διαγωνισμό με αριθμό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1434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Σύνταξη Ευρωπαϊκού Ενιαίου Εγγράφου Σύμβασης - ΕΕ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Στα στοιχεία δημοσίευσης οι οικονομικοί φορείς θα συμπληρώσουν  μόνο το τρίτο πεδίο «Δημοσίευση σε εθνικό επίπεδο» δηλαδή θα συμπληρώσουν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romitheus.gov.g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21PROC0009665597)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τον αριθμό δηλαδή της ανάρτησης από την Αναθέτουσα Αρχή της διακήρυξης στο ΕΣΗΔΗ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2421000"/>
            <a:ext cx="818496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000" y="1268280"/>
            <a:ext cx="9090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106640"/>
            <a:ext cx="88930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Λήξ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1704960"/>
            <a:ext cx="84978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0520" y="1197000"/>
            <a:ext cx="8583480" cy="3044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48000" y="4724280"/>
            <a:ext cx="3200400" cy="12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ΣΤΗ ΣΥΝΕΧΕΙΑ ΑΠΟΘΗΚΕΥΕΤΕ ΤΟ ΕΝΤΥΠΟ ΣΤΟΝ ΥΠΟΛΟΓΙΣΤΗ ΣΑΣ ΚΑΙ ΤΟ ΥΠΟΓΡΑΦΕΤΕ ΨΗΦΙΑΚΑ. ΣΤΗ ΣΥΝΕΧΕΙΑ ΤΟ ΕΠΙΣΥΝΑΠΤΕΤΕ ΣΤΟΝ ΗΛΕΚΤΡΟΝΙΚΟ ΔΙΑΓΩΝΙΣΜΟ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34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1T11:27:17Z</dcterms:created>
  <dc:creator>ckonstantinidis</dc:creator>
  <dc:description/>
  <dc:language>en-US</dc:language>
  <cp:lastModifiedBy>ckonstantinidis</cp:lastModifiedBy>
  <dcterms:modified xsi:type="dcterms:W3CDTF">2021-12-03T12:23:05Z</dcterms:modified>
  <cp:revision>16</cp:revision>
  <dc:subject/>
  <dc:title>ΣΥΜΠΛΗΡΩΣΗ ΚΑΙ ΥΠΟΒΟΛΗ ΤΟΥ ΕΕΕΣ</dc:title>
</cp:coreProperties>
</file>