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C82-7A86-42BC-B99D-91967A10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398-DF3E-4985-BC82-32C26C5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6D4-9C95-4BC5-90FA-309C6F5F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3FC-8264-482E-83B2-1D637006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AF7-03A5-44DC-83A3-0FAA0861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8F4-F8C7-4FB8-9A8F-F126D52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892-196A-4781-893E-6D82D038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D57-ED42-40B1-9A37-CF42C8C2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D5B-754F-4C57-B90E-F18AA3F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CA2-DD2A-433A-894B-B96762A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B17-B7B5-444A-873A-7A86383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782-A790-4F39-A3A8-035D259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164-6093-4001-974D-173207EBE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1410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1PROC0009357004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10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1-10-13T08:40:22Z</dcterms:modified>
  <cp:revision>14</cp:revision>
  <dc:subject/>
  <dc:title>ΣΥΜΠΛΗΡΩΣΗ ΚΑΙ ΥΠΟΒΟΛΗ ΤΟΥ ΕΕΕΣ</dc:title>
</cp:coreProperties>
</file>