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Img"/>
          </p:nvPr>
        </p:nvSpPr>
        <p:spPr>
          <a:xfrm>
            <a:off x="9475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body"/>
          </p:nvPr>
        </p:nvSpPr>
        <p:spPr>
          <a:xfrm>
            <a:off x="685800" y="4713120"/>
            <a:ext cx="548640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ftr" idx="38"/>
          </p:nvPr>
        </p:nvSpPr>
        <p:spPr>
          <a:xfrm>
            <a:off x="-36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 type="sldNum" idx="39"/>
          </p:nvPr>
        </p:nvSpPr>
        <p:spPr>
          <a:xfrm>
            <a:off x="3884400" y="942768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348A-E8E4-49A6-B4C8-43D3EF2BFE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713120"/>
            <a:ext cx="548640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942804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991A-2C57-47F9-9301-CE75736B9B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9A21-CF69-4891-9578-DF0C53928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3586-043F-4FCB-9197-48D63CB3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A143E-F9D4-47EA-9139-DD071A30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DAFD0-7625-405D-B417-D12509FD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6D845-0574-431D-8E46-8831BB63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01874-9443-41E8-92E3-5E9CA346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F293A-45EB-4566-91AE-262E5F8F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DC608-1B0E-4651-BDA4-CFA394EB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395C5-E3E7-4709-BEFB-1A037432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A5CC0-6CC2-466C-8E38-BAA3D595D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732D55-D8CE-4216-B131-2FA7BBE10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B66DF-E49D-4132-A2D7-FB03033F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50A0-617C-4329-ABB6-3C33C713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A6D85-7E59-41CA-888F-BCDF8DA5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F03D5-B25F-497B-8EDF-26A68CD0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95BFE-6DE9-4F71-B1A8-3710059D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9412F-9088-4A49-B9A0-9C481646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AAF57-5D7E-478E-BBB7-6F9D3024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FF836-9587-4ABF-9255-18B271E4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192C6-3021-4B57-960B-1946EAD1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2CB53-8EDD-4C3C-9AAD-48D3B9F0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8E9EBD-3B6A-483D-855A-62526C4F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CE689-0E87-4DC7-961E-6B69F1953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411F-61E4-47E5-9BFD-A89FB259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814AE-E60C-462A-837F-2A70DE45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0921C-0C81-404A-85EB-A09BE45A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C64DB-08A4-43E8-AFE7-32E86890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880F9-FFC0-4292-B308-B401A503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A244E-CD63-41E9-9F2B-BB7A3DA1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7C4F0-710B-4B06-ABC1-82B828BD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8C6D7-1EEA-4F7A-A877-6BFA8066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5F4A0-90D7-486A-BBB4-2AF38998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C989A-1C86-4CAE-B92B-E7504D74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2B2BE-F029-4AAC-A789-10ED183D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9D2B-6574-4200-926D-8B40FD5B6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51B78-41F0-4893-8AAD-881D8393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C5670-0A5F-4381-9B28-E3D698C1C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BBD98-2C0A-4D67-B160-E3B13A66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AB6840-94CF-422C-84DF-45C5C47D4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1C59A-BFA4-4DE0-81ED-C6C61478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4D1B40-2B53-452E-8D4D-69A1E9C0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A3E45-166D-426F-96AD-C2823C7A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61718-EECD-4F3D-B88B-9F8688C6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7ECE5-E153-4B3B-94DF-41419848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0B20F-0F93-497E-A0F4-922B3291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A620-8A6B-4DB4-B3EE-EB2954CF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CC471-9231-44E5-9A8A-4A255327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6A885-F05C-4FB4-91C8-E400EAD0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58ADD-8CC0-4F4C-844D-D9D90FB3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36ABC7-3BBD-4781-99B8-AB21A19E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D097E-0D6C-4ACD-8D35-C47E045DC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A86B-4F7E-4F3C-8B9C-DFA5CAD5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208C-A541-41F2-B2DB-111AEC46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26B1-E580-4E24-BC21-6D90ECA0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0226-FE39-4FBE-91DE-2F8BF36B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C941-85B4-4E6D-B39E-15BE5B0A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B81B-1FE8-4FCE-B130-8B902537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0166-4800-4B01-99DF-4D399F26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2A50-605D-433B-977C-DB75A6BF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D84F-DE7D-4FD4-8628-DC3A0189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9748-C24C-408C-A461-DAF7F346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A9EB-D640-412E-B5F2-187DC6404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66557-8B36-44B2-B489-4BCB336F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67C1C-670D-4C66-A83B-6C896BDC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3160C-4C12-4097-914C-01E73399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2C955-C9B6-4EC3-A7B7-D475CAD6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9E132-8693-43F8-B0E9-4B97622F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5320-AE0A-46C8-BFEC-752A4447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57821-AF13-4DE1-9BDF-5313F54E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8AD39-CD7D-4BBC-8862-7C411269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CBAA6-F38A-48BD-BBC6-E3AA4A7E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AE7D7-EC08-49BE-ADFB-818B8D6A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B20AA-BF49-4ADB-906B-83076FFD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65E12-586D-483C-A60C-0BA26C15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0216F-B062-4B5E-A5A0-C711077D6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0377F-F372-469E-96DD-7049ECFE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768C0-CF12-4E0C-BA07-C075C038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019B5-DB92-4146-B3D9-4FCC69C4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084A-5E31-4ECD-B788-2512ACB1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29CE7-0BDE-4D3E-B87C-4AC49AEF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F1A70-4F41-41BF-8048-AF70F15B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62224-5F7E-4988-AF3D-413D8C60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EA1C6-33FE-43DA-BCC6-1723098D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A0511-41E7-430F-A542-AF6E695C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9217A-C56B-44FB-841B-09134504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072C7-12C5-4157-A2E5-8D476CC3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404DC-5444-462D-A6DA-11200F2F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9AD77-F5BA-4CC4-B509-D5678A10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F267A-0360-4C12-A96C-22DEF5E4D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1221-D802-45D3-9EE3-03A09A22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F6EB3-2CC9-4672-8090-D03D0525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57DB1-E74C-4E84-82F9-A4D55B92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C955F-DC49-4EBC-A1F0-216A1EA1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EC670-7651-4FE7-A25C-512D28F6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93F0E-9898-4E47-9792-1A5B26C7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672F2-6643-4663-81A1-E5E8BF2B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79A49-C0EA-4825-B1ED-B7A19DBB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A9EDC-A4AB-4969-AF77-14233935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326E2-2B96-4B65-8BAA-B2261C95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FD277-E14C-4AC6-94AB-5E914659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4B02-AE9B-4EF2-952D-056D1E5D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41FEF-4127-444A-B41C-8E81F2CE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724EA-673E-4B43-8951-26AB5632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1F5C8-16A1-4FCF-BEC9-E051CD79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AD03F-E84E-401E-94AA-044DFC05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91279-2770-4269-9FD2-77A1516F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67CEF-2D8F-490A-8AB4-08520F73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85951-B8A4-4328-A828-4FC50311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9E793-5EFA-4B09-BAF6-BE3B3633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1CCB5-798D-492C-9B8B-01261F6E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92A88-BFAB-4F1B-ADE3-7848E6FB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63EE-AC47-4A83-A26A-C25CE6E5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9F07D-2E07-4325-9CC5-49452C10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B3CE1-8A63-48FE-8162-3CCD4FE69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CB6F6-F613-4C44-9B86-DC41BFF98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0D4B6-256F-4FCF-9B1C-973158AA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9C599-237C-452F-8A06-B8854272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3A64E-2BB9-4119-8748-80AE86C3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8D558-6ADB-4747-8BD0-ABD085D3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18A8A-9130-442C-B5F1-B8B13929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E9977-BB63-4BFC-8543-B063DA69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6324B-29FB-4B1F-AB2D-67440DED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176D-204A-4833-BB3E-76386B3B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3AB9B-9E0A-4930-AF49-E7A82A4D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38F0C-4592-4FE7-8143-7D31BD18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F2070-D3A8-4243-A438-07B2FBBC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4916A-D29B-4EEA-BF8C-052609DC2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FACD8-581A-42EE-8BE5-29719D8F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3F2F2-E948-4DCB-AE66-0598CBD9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272A6-FE3F-4E87-9DF9-7C74D71B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D1274-546F-4340-ADF5-248F7111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92360-9668-4380-9584-1C8CEF43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8C0A9-AD36-4F6A-9AFD-6D4D8B16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0799-37FB-4BFE-B77B-56F30C1F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78FC2-25EE-42E3-B295-96A47ADB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AD333-B37D-4464-93FF-F45D46DC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46BAB-E80F-452C-A220-D6B486ED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58D93-F7AB-4BE2-9040-9303EC21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E2AC0-F4B1-4610-95A1-9F0D1697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6974E-A91C-4F45-AE96-04E413130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40AC9-1E37-4166-8C3F-55B05C504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81789-E543-45B3-8018-64C3545B8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469EB-FB84-461D-B941-B72561B9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CACB4-01D4-4BB7-B1D2-0ECF345D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EEFF-7581-48B7-A083-641BABC4A1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EF61-715D-4C3A-8A94-15FFAF8FC6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2F47-6ABB-486A-8791-37A929005C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8E59-5728-48F8-9D96-1AE60E1085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7308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6" descr="LOGO CE-EN-quadri.eps"/>
          <p:cNvPicPr/>
          <p:nvPr/>
        </p:nvPicPr>
        <p:blipFill>
          <a:blip r:embed="rId2"/>
          <a:stretch/>
        </p:blipFill>
        <p:spPr>
          <a:xfrm>
            <a:off x="3905280" y="309600"/>
            <a:ext cx="1584360" cy="1100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369B-39AF-4284-BCA7-C2F55190561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5" descr="LOGO CE-EN-NEG-quadri.ai"/>
          <p:cNvPicPr/>
          <p:nvPr/>
        </p:nvPicPr>
        <p:blipFill>
          <a:blip r:embed="rId2"/>
          <a:stretch/>
        </p:blipFill>
        <p:spPr>
          <a:xfrm>
            <a:off x="3921120" y="324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8"/>
          <p:cNvSpPr/>
          <p:nvPr/>
        </p:nvSpPr>
        <p:spPr>
          <a:xfrm>
            <a:off x="4262400" y="666900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37000"/>
            <a:ext cx="28958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4896-4BC0-46BE-9225-CB28F7702B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658F-2252-4C0D-9043-CD1EB38071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76D3-1909-4B97-84D4-8112A10953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75C3-F32A-4CF3-BA59-E5A1376B8C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F473-F50A-4E3D-8A36-B29B915738F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4D24-2768-4C2E-9CB4-415D0C50CC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720D-B502-453D-BFA0-6B0957AB0D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SANTE-VET-PROG@ec.europa.eu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8000" y="1267920"/>
            <a:ext cx="8928000" cy="518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aft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ork Programme (WP)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r the implementation of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terinary programmes in 2021-2022</a:t>
            </a:r>
            <a:br>
              <a:rPr sz="3200"/>
            </a:br>
            <a:br>
              <a:rPr sz="3200"/>
            </a:br>
            <a:br>
              <a:rPr sz="2800"/>
            </a:br>
            <a:r>
              <a:rPr b="1" lang="en-US" sz="2000" spc="-1" strike="noStrike">
                <a:solidFill>
                  <a:srgbClr val="ffd624"/>
                </a:solidFill>
                <a:latin typeface="Times New Roman"/>
                <a:ea typeface="Times New Roman"/>
              </a:rPr>
              <a:t>Standing Committee on Plants, Animals, Food and Feed</a:t>
            </a:r>
            <a:br>
              <a:rPr sz="2000"/>
            </a:br>
            <a:r>
              <a:rPr b="1" lang="en-US" sz="2000" spc="-1" strike="noStrike">
                <a:solidFill>
                  <a:srgbClr val="ffd624"/>
                </a:solidFill>
                <a:latin typeface="Times New Roman"/>
                <a:ea typeface="Times New Roman"/>
              </a:rPr>
              <a:t>Section Animal Health and Welfare</a:t>
            </a:r>
            <a:r>
              <a:rPr b="1" lang="fr-BE" sz="2000" spc="-1" strike="noStrike">
                <a:solidFill>
                  <a:srgbClr val="ffd624"/>
                </a:solidFill>
                <a:latin typeface="Times New Roman"/>
                <a:ea typeface="Times New Roman"/>
              </a:rPr>
              <a:t> (WebEx meeting, 12 February 2021</a:t>
            </a:r>
            <a:r>
              <a:rPr b="1" lang="fr-BE" sz="2000" spc="-1" strike="noStrike">
                <a:solidFill>
                  <a:srgbClr val="ffd624"/>
                </a:solidFill>
                <a:latin typeface="Times New Roman"/>
                <a:ea typeface="Times New Roman"/>
              </a:rPr>
              <a:t>)</a:t>
            </a:r>
            <a:br>
              <a:rPr sz="2000"/>
            </a:br>
            <a:br>
              <a:rPr sz="2000"/>
            </a:br>
            <a:r>
              <a:rPr b="1" lang="fr-BE" sz="2800" spc="-1" strike="noStrike">
                <a:solidFill>
                  <a:srgbClr val="0070c0"/>
                </a:solidFill>
                <a:latin typeface="Verdana"/>
                <a:ea typeface="Times New Roman"/>
              </a:rPr>
              <a:t>	</a:t>
            </a:r>
            <a:r>
              <a:rPr b="1" lang="fr-BE" sz="2800" spc="-1" strike="noStrike">
                <a:solidFill>
                  <a:srgbClr val="0070c0"/>
                </a:solidFill>
                <a:latin typeface="Verdana"/>
                <a:ea typeface="Times New Roman"/>
              </a:rPr>
              <a:t>	</a:t>
            </a:r>
            <a:r>
              <a:rPr b="1" lang="fr-BE" sz="2800" spc="-1" strike="noStrike">
                <a:solidFill>
                  <a:srgbClr val="0070c0"/>
                </a:solidFill>
                <a:latin typeface="Verdana"/>
                <a:ea typeface="Times New Roman"/>
              </a:rPr>
              <a:t>	</a:t>
            </a:r>
            <a:br>
              <a:rPr sz="2800"/>
            </a:br>
            <a:r>
              <a:rPr b="1" lang="fr-BE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fr-BE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fr-BE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fr-BE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fr-BE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fr-BE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fr-BE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nit</a:t>
            </a:r>
            <a:r>
              <a:rPr b="1" lang="en-GB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4</a:t>
            </a:r>
            <a:br>
              <a:rPr sz="1800"/>
            </a:br>
            <a:br>
              <a:rPr sz="2000"/>
            </a:br>
            <a:r>
              <a:rPr b="1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od safety programme, emergency funding</a:t>
            </a:r>
            <a:br>
              <a:rPr sz="2000"/>
            </a:br>
            <a:r>
              <a:rPr b="1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G SANTE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400"/>
            </a:br>
            <a:br>
              <a:rPr sz="2400"/>
            </a:br>
            <a:br>
              <a:rPr sz="2000"/>
            </a:br>
            <a:br>
              <a:rPr sz="2000"/>
            </a:br>
            <a:br>
              <a:rPr sz="1800"/>
            </a:br>
            <a:br>
              <a:rPr sz="2200"/>
            </a:br>
            <a:br>
              <a:rPr sz="1800"/>
            </a:b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6" name="3 - TextBox"/>
          <p:cNvSpPr/>
          <p:nvPr/>
        </p:nvSpPr>
        <p:spPr>
          <a:xfrm>
            <a:off x="4219560" y="6462720"/>
            <a:ext cx="928800" cy="27612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tion Budget 2021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746280" y="2386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324000" y="1916280"/>
          <a:ext cx="8362800" cy="3958920"/>
        </p:xfrm>
        <a:graphic>
          <a:graphicData uri="http://schemas.openxmlformats.org/drawingml/2006/table">
            <a:tbl>
              <a:tblPr/>
              <a:tblGrid>
                <a:gridCol w="422280"/>
                <a:gridCol w="631800"/>
                <a:gridCol w="633240"/>
                <a:gridCol w="492120"/>
                <a:gridCol w="631800"/>
                <a:gridCol w="773280"/>
                <a:gridCol w="703080"/>
                <a:gridCol w="701640"/>
                <a:gridCol w="633600"/>
                <a:gridCol w="631800"/>
                <a:gridCol w="703080"/>
                <a:gridCol w="631800"/>
                <a:gridCol w="773280"/>
              </a:tblGrid>
              <a:tr h="3715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S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d1e0b5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frican Swine Fever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ian Influenza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lue tongue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vine Brucellosis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vine Tuberculosis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ical Swine Fever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umpy Skin Disease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bies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lmonella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eep And Goat Brucellosis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SE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576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d1e0b5"/>
                    </a:solidFill>
                  </a:tcPr>
                </a:tc>
              </a:tr>
              <a:tr h="1281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T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e7ef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221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7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390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576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b5"/>
                    </a:solidFill>
                  </a:tcPr>
                </a:tc>
              </a:tr>
              <a:tr h="1281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e7ef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2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69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1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878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576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b5"/>
                    </a:solidFill>
                  </a:tcPr>
                </a:tc>
              </a:tr>
              <a:tr h="1281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G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e7ef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594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9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9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937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8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4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060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576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b5"/>
                    </a:solidFill>
                  </a:tcPr>
                </a:tc>
              </a:tr>
              <a:tr h="1281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Y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e7ef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3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5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576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b5"/>
                    </a:solidFill>
                  </a:tcPr>
                </a:tc>
              </a:tr>
              <a:tr h="1281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Z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e7ef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0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271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2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612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576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b5"/>
                    </a:solidFill>
                  </a:tcPr>
                </a:tc>
              </a:tr>
              <a:tr h="1281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e7ef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1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0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2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18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331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576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b5"/>
                    </a:solidFill>
                  </a:tcPr>
                </a:tc>
              </a:tr>
              <a:tr h="1281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K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e7ef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576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b5"/>
                    </a:solidFill>
                  </a:tcPr>
                </a:tc>
              </a:tr>
              <a:tr h="1281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E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e7ef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6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1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7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576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b5"/>
                    </a:solidFill>
                  </a:tcPr>
                </a:tc>
              </a:tr>
              <a:tr h="1281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L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e7ef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0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7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347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7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1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22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576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b5"/>
                    </a:solidFill>
                  </a:tcPr>
                </a:tc>
              </a:tr>
              <a:tr h="1281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e7ef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6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795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4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302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400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024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576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b5"/>
                    </a:solidFill>
                  </a:tcPr>
                </a:tc>
              </a:tr>
              <a:tr h="1281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e7ef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9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9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7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576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b5"/>
                    </a:solidFill>
                  </a:tcPr>
                </a:tc>
              </a:tr>
              <a:tr h="1281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R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e7ef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3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5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279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592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219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576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b5"/>
                    </a:solidFill>
                  </a:tcPr>
                </a:tc>
              </a:tr>
              <a:tr h="1281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R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e7ef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6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2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223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0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7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746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576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b5"/>
                    </a:solidFill>
                  </a:tcPr>
                </a:tc>
              </a:tr>
              <a:tr h="1281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U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e7ef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66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031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495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1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743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576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b5"/>
                    </a:solidFill>
                  </a:tcPr>
                </a:tc>
              </a:tr>
              <a:tr h="1281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E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e7ef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780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8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1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489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576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b5"/>
                    </a:solidFill>
                  </a:tcPr>
                </a:tc>
              </a:tr>
              <a:tr h="1281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T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e7ef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3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0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901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21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5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928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477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735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576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b5"/>
                    </a:solidFill>
                  </a:tcPr>
                </a:tc>
              </a:tr>
              <a:tr h="1281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T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e7ef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5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92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343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576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b5"/>
                    </a:solidFill>
                  </a:tcPr>
                </a:tc>
              </a:tr>
              <a:tr h="1281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U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e7ef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576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b5"/>
                    </a:solidFill>
                  </a:tcPr>
                </a:tc>
              </a:tr>
              <a:tr h="1281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V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e7ef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5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28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9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18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576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b5"/>
                    </a:solidFill>
                  </a:tcPr>
                </a:tc>
              </a:tr>
              <a:tr h="1281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T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e7ef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576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b5"/>
                    </a:solidFill>
                  </a:tcPr>
                </a:tc>
              </a:tr>
              <a:tr h="1281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L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e7ef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23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640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9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442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576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b5"/>
                    </a:solidFill>
                  </a:tcPr>
                </a:tc>
              </a:tr>
              <a:tr h="1281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e7ef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39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918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199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8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167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576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b5"/>
                    </a:solidFill>
                  </a:tcPr>
                </a:tc>
              </a:tr>
              <a:tr h="1281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T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e7ef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452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644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055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521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576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b5"/>
                    </a:solidFill>
                  </a:tcPr>
                </a:tc>
              </a:tr>
              <a:tr h="1281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e7ef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37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8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1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749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5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130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.810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576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b5"/>
                    </a:solidFill>
                  </a:tcPr>
                </a:tc>
              </a:tr>
              <a:tr h="1281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e7ef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576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b5"/>
                    </a:solidFill>
                  </a:tcPr>
                </a:tc>
              </a:tr>
              <a:tr h="1281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e7ef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7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1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6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576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2880">
                      <a:solidFill>
                        <a:srgbClr val="bbd192"/>
                      </a:solidFill>
                    </a:lnB>
                    <a:solidFill>
                      <a:srgbClr val="c2e0b5"/>
                    </a:solidFill>
                  </a:tcPr>
                </a:tc>
              </a:tr>
              <a:tr h="1281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K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5760">
                      <a:solidFill>
                        <a:srgbClr val="bbd192"/>
                      </a:solidFill>
                    </a:lnB>
                    <a:solidFill>
                      <a:srgbClr val="e7ef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70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576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576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576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576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576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576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576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3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576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9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576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576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4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5760">
                      <a:solidFill>
                        <a:srgbClr val="bbd192"/>
                      </a:solidFill>
                    </a:lnB>
                    <a:solidFill>
                      <a:srgbClr val="c2e0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669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5760">
                      <a:solidFill>
                        <a:srgbClr val="bbd192"/>
                      </a:solidFill>
                    </a:lnL>
                    <a:lnR w="5760">
                      <a:solidFill>
                        <a:srgbClr val="bbd192"/>
                      </a:solidFill>
                    </a:lnR>
                    <a:lnT w="2880">
                      <a:solidFill>
                        <a:srgbClr val="bbd192"/>
                      </a:solidFill>
                    </a:lnT>
                    <a:lnB w="5760">
                      <a:solidFill>
                        <a:srgbClr val="bbd192"/>
                      </a:solidFill>
                    </a:lnB>
                    <a:solidFill>
                      <a:srgbClr val="c2e0b5"/>
                    </a:solidFill>
                  </a:tcPr>
                </a:tc>
              </a:tr>
              <a:tr h="1281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5760">
                      <a:solidFill>
                        <a:srgbClr val="bbd192"/>
                      </a:solidFill>
                    </a:lnT>
                    <a:lnB w="5760">
                      <a:solidFill>
                        <a:srgbClr val="bbd192"/>
                      </a:solidFill>
                    </a:lnB>
                    <a:solidFill>
                      <a:srgbClr val="d1e0b5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565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5760">
                      <a:solidFill>
                        <a:srgbClr val="bbd192"/>
                      </a:solidFill>
                    </a:lnT>
                    <a:lnB w="5760">
                      <a:solidFill>
                        <a:srgbClr val="bbd192"/>
                      </a:solidFill>
                    </a:lnB>
                    <a:solidFill>
                      <a:srgbClr val="c2e0b5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384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5760">
                      <a:solidFill>
                        <a:srgbClr val="bbd192"/>
                      </a:solidFill>
                    </a:lnT>
                    <a:lnB w="5760">
                      <a:solidFill>
                        <a:srgbClr val="bbd192"/>
                      </a:solidFill>
                    </a:lnB>
                    <a:solidFill>
                      <a:srgbClr val="c2e0b5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5760">
                      <a:solidFill>
                        <a:srgbClr val="bbd192"/>
                      </a:solidFill>
                    </a:lnT>
                    <a:lnB w="5760">
                      <a:solidFill>
                        <a:srgbClr val="bbd192"/>
                      </a:solidFill>
                    </a:lnB>
                    <a:solidFill>
                      <a:srgbClr val="c2e0b5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989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5760">
                      <a:solidFill>
                        <a:srgbClr val="bbd192"/>
                      </a:solidFill>
                    </a:lnT>
                    <a:lnB w="5760">
                      <a:solidFill>
                        <a:srgbClr val="bbd192"/>
                      </a:solidFill>
                    </a:lnB>
                    <a:solidFill>
                      <a:srgbClr val="c2e0b5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348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5760">
                      <a:solidFill>
                        <a:srgbClr val="bbd192"/>
                      </a:solidFill>
                    </a:lnT>
                    <a:lnB w="5760">
                      <a:solidFill>
                        <a:srgbClr val="bbd192"/>
                      </a:solidFill>
                    </a:lnB>
                    <a:solidFill>
                      <a:srgbClr val="c2e0b5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5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5760">
                      <a:solidFill>
                        <a:srgbClr val="bbd192"/>
                      </a:solidFill>
                    </a:lnT>
                    <a:lnB w="5760">
                      <a:solidFill>
                        <a:srgbClr val="bbd192"/>
                      </a:solidFill>
                    </a:lnB>
                    <a:solidFill>
                      <a:srgbClr val="c2e0b5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375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5760">
                      <a:solidFill>
                        <a:srgbClr val="bbd192"/>
                      </a:solidFill>
                    </a:lnT>
                    <a:lnB w="5760">
                      <a:solidFill>
                        <a:srgbClr val="bbd192"/>
                      </a:solidFill>
                    </a:lnB>
                    <a:solidFill>
                      <a:srgbClr val="c2e0b5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.145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5760">
                      <a:solidFill>
                        <a:srgbClr val="bbd192"/>
                      </a:solidFill>
                    </a:lnT>
                    <a:lnB w="5760">
                      <a:solidFill>
                        <a:srgbClr val="bbd192"/>
                      </a:solidFill>
                    </a:lnB>
                    <a:solidFill>
                      <a:srgbClr val="c2e0b5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.270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5760">
                      <a:solidFill>
                        <a:srgbClr val="bbd192"/>
                      </a:solidFill>
                    </a:lnT>
                    <a:lnB w="5760">
                      <a:solidFill>
                        <a:srgbClr val="bbd192"/>
                      </a:solidFill>
                    </a:lnB>
                    <a:solidFill>
                      <a:srgbClr val="c2e0b5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697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5760">
                      <a:solidFill>
                        <a:srgbClr val="bbd192"/>
                      </a:solidFill>
                    </a:lnT>
                    <a:lnB w="5760">
                      <a:solidFill>
                        <a:srgbClr val="bbd192"/>
                      </a:solidFill>
                    </a:lnB>
                    <a:solidFill>
                      <a:srgbClr val="c2e0b5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480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5760">
                      <a:solidFill>
                        <a:srgbClr val="bbd192"/>
                      </a:solidFill>
                    </a:lnT>
                    <a:lnB w="5760">
                      <a:solidFill>
                        <a:srgbClr val="bbd192"/>
                      </a:solidFill>
                    </a:lnB>
                    <a:solidFill>
                      <a:srgbClr val="c2e0b5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.017.000</a:t>
                      </a:r>
                      <a:endParaRPr b="1" lang="en-US" sz="8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120" marR="6120">
                    <a:lnL w="2880">
                      <a:solidFill>
                        <a:srgbClr val="bbd192"/>
                      </a:solidFill>
                    </a:lnL>
                    <a:lnR w="2880">
                      <a:solidFill>
                        <a:srgbClr val="bbd192"/>
                      </a:solidFill>
                    </a:lnR>
                    <a:lnT w="5760">
                      <a:solidFill>
                        <a:srgbClr val="bbd192"/>
                      </a:solidFill>
                    </a:lnT>
                    <a:lnB w="5760">
                      <a:solidFill>
                        <a:srgbClr val="bbd192"/>
                      </a:solidFill>
                    </a:lnB>
                    <a:solidFill>
                      <a:srgbClr val="c2e0b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9" name=""/>
          <p:cNvGraphicFramePr/>
          <p:nvPr/>
        </p:nvGraphicFramePr>
        <p:xfrm>
          <a:off x="611280" y="6093000"/>
          <a:ext cx="1728720" cy="541080"/>
        </p:xfrm>
        <a:graphic>
          <a:graphicData uri="http://schemas.openxmlformats.org/drawingml/2006/table">
            <a:tbl>
              <a:tblPr/>
              <a:tblGrid>
                <a:gridCol w="957240"/>
                <a:gridCol w="771480"/>
              </a:tblGrid>
              <a:tr h="17748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mulation 202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p 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.364.000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p 2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653.000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79280" y="1628640"/>
            <a:ext cx="8964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8480" indent="-457200">
              <a:spcBef>
                <a:spcPts val="700"/>
              </a:spcBef>
              <a:tabLst>
                <a:tab algn="l" pos="0"/>
                <a:tab algn="l" pos="1368360"/>
                <a:tab algn="l" pos="2282760"/>
                <a:tab algn="l" pos="3197160"/>
                <a:tab algn="l" pos="4111560"/>
                <a:tab algn="l" pos="5025960"/>
                <a:tab algn="l" pos="5940360"/>
                <a:tab algn="l" pos="6854760"/>
                <a:tab algn="l" pos="7769160"/>
                <a:tab algn="l" pos="8683560"/>
                <a:tab algn="l" pos="9597960"/>
                <a:tab algn="l" pos="1051236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79848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68360"/>
                <a:tab algn="l" pos="2282760"/>
                <a:tab algn="l" pos="3197160"/>
                <a:tab algn="l" pos="4111560"/>
                <a:tab algn="l" pos="5025960"/>
                <a:tab algn="l" pos="5940360"/>
                <a:tab algn="l" pos="6854760"/>
                <a:tab algn="l" pos="7769160"/>
                <a:tab algn="l" pos="8683560"/>
                <a:tab algn="l" pos="9597960"/>
                <a:tab algn="l" pos="1051236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Times New Roman"/>
                <a:ea typeface="Microsoft YaHei"/>
              </a:rPr>
              <a:t>Please send your comments by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19 February 2021 </a:t>
            </a:r>
            <a:r>
              <a:rPr b="0" lang="en-US" sz="2800" spc="-1" strike="noStrike">
                <a:solidFill>
                  <a:srgbClr val="0f5494"/>
                </a:solidFill>
                <a:latin typeface="Times New Roman"/>
                <a:ea typeface="Microsoft YaHei"/>
              </a:rPr>
              <a:t>to: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798480" indent="-457200">
              <a:spcBef>
                <a:spcPts val="700"/>
              </a:spcBef>
              <a:tabLst>
                <a:tab algn="l" pos="0"/>
                <a:tab algn="l" pos="1368360"/>
                <a:tab algn="l" pos="2282760"/>
                <a:tab algn="l" pos="3197160"/>
                <a:tab algn="l" pos="4111560"/>
                <a:tab algn="l" pos="5025960"/>
                <a:tab algn="l" pos="5940360"/>
                <a:tab algn="l" pos="6854760"/>
                <a:tab algn="l" pos="7769160"/>
                <a:tab algn="l" pos="8683560"/>
                <a:tab algn="l" pos="9597960"/>
                <a:tab algn="l" pos="1051236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798480" indent="-457200">
              <a:spcBef>
                <a:spcPts val="700"/>
              </a:spcBef>
              <a:tabLst>
                <a:tab algn="l" pos="0"/>
                <a:tab algn="l" pos="1368360"/>
                <a:tab algn="l" pos="2282760"/>
                <a:tab algn="l" pos="3197160"/>
                <a:tab algn="l" pos="4111560"/>
                <a:tab algn="l" pos="5025960"/>
                <a:tab algn="l" pos="5940360"/>
                <a:tab algn="l" pos="6854760"/>
                <a:tab algn="l" pos="7769160"/>
                <a:tab algn="l" pos="8683560"/>
                <a:tab algn="l" pos="9597960"/>
                <a:tab algn="l" pos="105123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	SANTE-VET-PROG@ec.europa.eu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798480" indent="-457200">
              <a:spcBef>
                <a:spcPts val="700"/>
              </a:spcBef>
              <a:tabLst>
                <a:tab algn="l" pos="0"/>
                <a:tab algn="l" pos="1368360"/>
                <a:tab algn="l" pos="2282760"/>
                <a:tab algn="l" pos="3197160"/>
                <a:tab algn="l" pos="4111560"/>
                <a:tab algn="l" pos="5025960"/>
                <a:tab algn="l" pos="5940360"/>
                <a:tab algn="l" pos="6854760"/>
                <a:tab algn="l" pos="7769160"/>
                <a:tab algn="l" pos="8683560"/>
                <a:tab algn="l" pos="9597960"/>
                <a:tab algn="l" pos="1051236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798480" indent="-457200">
              <a:spcBef>
                <a:spcPts val="700"/>
              </a:spcBef>
              <a:tabLst>
                <a:tab algn="l" pos="0"/>
                <a:tab algn="l" pos="1368360"/>
                <a:tab algn="l" pos="2282760"/>
                <a:tab algn="l" pos="3197160"/>
                <a:tab algn="l" pos="4111560"/>
                <a:tab algn="l" pos="5025960"/>
                <a:tab algn="l" pos="5940360"/>
                <a:tab algn="l" pos="6854760"/>
                <a:tab algn="l" pos="7769160"/>
                <a:tab algn="l" pos="8683560"/>
                <a:tab algn="l" pos="9597960"/>
                <a:tab algn="l" pos="1051236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798480" indent="-457200" algn="ctr">
              <a:spcBef>
                <a:spcPts val="700"/>
              </a:spcBef>
              <a:tabLst>
                <a:tab algn="l" pos="0"/>
                <a:tab algn="l" pos="1368360"/>
                <a:tab algn="l" pos="2282760"/>
                <a:tab algn="l" pos="3197160"/>
                <a:tab algn="l" pos="4111560"/>
                <a:tab algn="l" pos="5025960"/>
                <a:tab algn="l" pos="5940360"/>
                <a:tab algn="l" pos="6854760"/>
                <a:tab algn="l" pos="7769160"/>
                <a:tab algn="l" pos="8683560"/>
                <a:tab algn="l" pos="9597960"/>
                <a:tab algn="l" pos="1051236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Verdana"/>
                <a:ea typeface="Microsoft YaHei"/>
              </a:rPr>
              <a:t>Thank you  for your attention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2" name="3 - TextBox"/>
          <p:cNvSpPr/>
          <p:nvPr/>
        </p:nvSpPr>
        <p:spPr>
          <a:xfrm>
            <a:off x="4219560" y="6462720"/>
            <a:ext cx="928800" cy="27612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0000"/>
                </a:solidFill>
                <a:latin typeface="Verdana"/>
              </a:rPr>
              <a:t>Indicative timeline for adoption of the WP 2021-2022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2204640"/>
            <a:ext cx="822960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MP adoption </a:t>
            </a:r>
            <a:r>
              <a:rPr b="0" lang="en-GB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ost likely by April 2021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f549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nder the SMP umbrella: single financing decision (FD) and work programme (WP), including all activities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doption of FD and WP 2021-2022 by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f549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y/June 2021;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f549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ubmission of Veterinary programmes 2021-2022 &gt;  June/July 2021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f549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ignature of grant : October 2021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f549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mplementation period : as from 1/1/2021 (retro-activity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50920" y="1484280"/>
            <a:ext cx="84470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raf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ork Programme (WP) for the implementation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 veterinary programmes in 2021-2022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08000" y="2636640"/>
            <a:ext cx="8964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866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fr-BE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fr-BE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fr-BE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fr-BE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in point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38840" indent="-348120">
              <a:lnSpc>
                <a:spcPct val="150000"/>
              </a:lnSpc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bjective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38840" indent="-348120">
              <a:lnSpc>
                <a:spcPct val="150000"/>
              </a:lnSpc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riteria of prioritisation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38840" indent="-348120">
              <a:lnSpc>
                <a:spcPct val="150000"/>
              </a:lnSpc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iorities for EU co-funding in 2021-2022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38840" indent="-348120">
              <a:lnSpc>
                <a:spcPct val="150000"/>
              </a:lnSpc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xpected resul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38840" indent="-348120">
              <a:lnSpc>
                <a:spcPct val="150000"/>
              </a:lnSpc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udget available, Co-funding rate to appl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26792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nl-BE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nl-BE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Objectives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o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prevent the introduction or re-introduction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f transboundary diseases in the EU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o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enhance surveillance, for early detection 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f disease outbreaks for timely control or containment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o control certain animal diseases and/or zoonosis,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reaching/maintaining their prevalence below a certain  level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o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reduce prevalence / incidence 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f certain endemic diseases,  and achieve disease eradication where feasibl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26792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nl-BE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riteria of prioritisation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evention of epidemics or zoonoses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irect impact on human health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ndatory measures under EU legislatio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nsolidation of the EU animal health situatio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udget availability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Veterinary programme effectiveness in the past year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2060"/>
                </a:solidFill>
                <a:latin typeface="Verdana"/>
              </a:rPr>
              <a:t>	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26792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nl-BE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riorities for EU co-funding in 2021-2022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f5494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f549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Group 1:</a:t>
            </a:r>
            <a:r>
              <a:rPr b="0" lang="en-GB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iseases with major impact on animal health, human health, on trade and likely at risk to be introduced into the Union territory from third countri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frican Swine fever, avian Influenza, Salmonella, rabi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f549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f549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Group 2</a:t>
            </a:r>
            <a:r>
              <a:rPr b="0" lang="en-GB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n-GB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diseases with limited impact on animal health and/or human health and close to eradication, where possibl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SE, </a:t>
            </a: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vine - sheep and goat brucellosis </a:t>
            </a:r>
            <a:r>
              <a:rPr b="0" i="1" lang="en-GB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bovine tuberculosis , classical     swine fever,</a:t>
            </a:r>
            <a:r>
              <a:rPr b="0" i="1" lang="fr-BE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lumpy skin disease, peste des petits ruminants, sheep-goat pox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f549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26792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nl-BE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nl-BE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xpected Results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arly detection </a:t>
            </a: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 e.g. Avian Influenza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No outbreaks   </a:t>
            </a: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e.g. rabies, LSD, PPR , Sheep – Goat Pox, CSF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ntainment and reduction/stabilization of num. of outbreaks </a:t>
            </a: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ASF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crease the number of MS with incidence below EU target </a:t>
            </a: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zoonotic Salmonella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intain number of cases below certain level , increase MS with negligible risk </a:t>
            </a: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classical BSE),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Times New Roman"/>
                <a:ea typeface="Verdana"/>
              </a:rPr>
              <a:t>decrease the number of index cases of classical scrapie in sheep and goats in the EU;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crease of prevalence/incidence, increase disease –free MS </a:t>
            </a: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TB, Bru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ximum budget available for vet programme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21 = 107 M EUR                     2022 = 107 M EUR</a:t>
            </a:r>
            <a:r>
              <a:rPr b="0" lang="nl-BE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nl-BE" sz="24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0000"/>
                </a:solidFill>
                <a:latin typeface="Times New Roman"/>
                <a:ea typeface="Verdana"/>
              </a:rPr>
              <a:t>Co-funding rate (CFR)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2060"/>
                </a:solidFill>
                <a:latin typeface="Times New Roman"/>
                <a:ea typeface="Verdana"/>
              </a:rPr>
              <a:t>Group 1= 50%-75%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2060"/>
                </a:solidFill>
                <a:latin typeface="Times New Roman"/>
                <a:ea typeface="Verdana"/>
              </a:rPr>
              <a:t>Group 2= 28%-53% (except Bovine tuberculosis : continuation of the phasing-out for existing programmes, with 15-40% in 2021 and 11-36% in 2022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2060"/>
                </a:solidFill>
                <a:latin typeface="Times New Roman"/>
                <a:ea typeface="Verdana"/>
              </a:rPr>
              <a:t>100%: activities in TC (mainly ASF/Rabie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2060"/>
                </a:solidFill>
                <a:latin typeface="Times New Roman"/>
                <a:ea typeface="Verdana"/>
              </a:rPr>
              <a:t>In case the budget requested by the MSs for their programmes exceeds 107 M€, the CFR for Group 2 may be proportionally further decreased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93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755640" y="2060640"/>
          <a:ext cx="7940520" cy="3916440"/>
        </p:xfrm>
        <a:graphic>
          <a:graphicData uri="http://schemas.openxmlformats.org/drawingml/2006/table">
            <a:tbl>
              <a:tblPr/>
              <a:tblGrid>
                <a:gridCol w="1728720"/>
                <a:gridCol w="1506600"/>
                <a:gridCol w="1805040"/>
                <a:gridCol w="2900160"/>
              </a:tblGrid>
              <a:tr h="392040">
                <a:tc>
                  <a:txBody>
                    <a:bodyPr lIns="16920" rIns="1692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Co financing rates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6920" rIns="1692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2020 (without UK)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2021 budget based on 2020 model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Simulation for 2021 budget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16920" rIns="1692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Group 1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16920" rIns="1692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ASF – AI – rabies – salmo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50/75/100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16920" rIns="1692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Idem but with new JRC unit costs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Only vaccines in SI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Alloc TB : 32,020,000 EUR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50/75/100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16920" rIns="1692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Group 2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16920" rIns="1692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BV bru – CSF – SG bru - TSE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50/75/100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28/53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</a:tr>
              <a:tr h="195120">
                <a:tc>
                  <a:txBody>
                    <a:bodyPr lIns="16920" rIns="1692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Bluetongue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All measures 50/75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Only vaccines in eligible MSs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16920" rIns="1692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LSD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Idem with vaccines at 100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As group 2, except vaccines at 75 (100 not possible in MSs under SMP)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3280">
                <a:tc>
                  <a:txBody>
                    <a:bodyPr lIns="16920" rIns="1692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BV tub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35/55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Alloc : 19,332,000 EUR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15/40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The resulting alloc for TB: 14,400,000 EUR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i.e. alloc 2020 – 26% (phasing out)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NB: for BV TB in 2022, to continue the phasing out, the CFR could be 11/36 resulting in a budget of 10,793,448EUR i.e. alloc 2021-24,8%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(CFR 10/35 would be -31%: 9,905,599EUR)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16920" rIns="1692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TOTAL allocation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112,352,000 EUR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141,283,000 EUR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0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106,017,000 EUR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</a:tr>
            </a:tbl>
          </a:graphicData>
        </a:graphic>
      </p:graphicFrame>
      <p:sp>
        <p:nvSpPr>
          <p:cNvPr id="524" name="Rectangle 3"/>
          <p:cNvSpPr/>
          <p:nvPr/>
        </p:nvSpPr>
        <p:spPr>
          <a:xfrm>
            <a:off x="746280" y="2386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Chiara.PINNA@ec.europa.eu</dc:creator>
  <dc:description/>
  <dc:language>en-US</dc:language>
  <cp:lastModifiedBy>user</cp:lastModifiedBy>
  <cp:lastPrinted>2019-02-15T13:29:58Z</cp:lastPrinted>
  <dcterms:modified xsi:type="dcterms:W3CDTF">2021-03-30T08:46:05Z</dcterms:modified>
  <cp:revision>767</cp:revision>
  <dc:subject/>
  <dc:title>Slide 1</dc:title>
</cp:coreProperties>
</file>