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E2F-AFB8-4A1C-81D9-FF8CE3A8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9C1-CCAE-49F7-BCB0-2A58A157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FAF-B759-46D3-9095-85D3A29F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978-F1FD-4B7C-9472-DD011D47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058-83F3-4F38-B575-DA31418F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B76-48B7-4A71-8974-45C2E8C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F1B-5C6D-4FC0-947F-5912A9E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EEC-AA8C-4BC7-A73D-925289D8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592-C4E3-440F-AF8F-4C8007B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24C-E36B-4589-9CA2-1DD0A65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6DA-1A73-467E-9CD5-78C1A7D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B6E-BE5D-4C68-8AC0-8E4676C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E66C-3F29-4D3B-B1AE-53B260050E9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DP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838160"/>
            <a:ext cx="6837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1086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86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ckonstantinidis</cp:lastModifiedBy>
  <dcterms:modified xsi:type="dcterms:W3CDTF">2021-05-07T07:56:54Z</dcterms:modified>
  <cp:revision>6</cp:revision>
  <dc:subject/>
  <dc:title>ΣΥΜΠΛΗΡΩΣΗ ΚΑΙ ΥΠΟΒΟΛΗ ΤΟΥ ΕΕΕΣ</dc:title>
</cp:coreProperties>
</file>