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00E-7EE7-407D-BF32-B73B8268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09C-7D3A-4A28-945A-057A8D0E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5E1-5F1E-4239-A41F-2436EFEA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9CF6-8032-450F-B083-61E6B858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C54-7026-4E61-A565-8194A900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554-4C4A-4688-9535-45F44932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1E39-CC75-44DC-9342-B536D47F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172E-EE80-4E27-AC63-46F9D29C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404D-A573-41E3-AA86-E6BFBF8E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FFEB-3EB0-4A99-A256-B5B69C6A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B5C-F015-4542-91E3-86A91C51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CBC-35CD-4AAE-84BE-4941C69F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9135-E345-4822-BE1A-D3827A2FC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ΣΥΜΠΛΗΡΩΣΗ ΚΑΙ ΥΠΟΒΟΛΗ ΤΟΥ ΕΕ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1341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Συνδεθείτε στη νέα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ηλεκτρονική υπηρεσία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mitheus ESDP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μέσω της ηλεκτρονικής διεύθυνσης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promitheus.gov.g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1838160"/>
            <a:ext cx="68374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η συνέχεια επιλέγετε Ελληνι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31708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νοίγει η ακόλουθη σελίδα στην οποία κάνετε τις εξής επιλογέ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072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000" y="1268280"/>
            <a:ext cx="9090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106640"/>
            <a:ext cx="88930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Λήξ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1704960"/>
            <a:ext cx="84978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60520" y="1197000"/>
            <a:ext cx="8583480" cy="3044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000" y="4724280"/>
            <a:ext cx="3200400" cy="12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ΣΤΗ ΣΥΝΕΧΕΙΑ ΑΠΟΘΗΚΕΥΕΤΕ ΤΟ ΕΝΤΥΠΟ ΣΤΟΝ ΥΠΟΛΟΓΙΣΤΗ ΣΑΣ ΚΑΙ ΤΟ ΥΠΟΓΡΑΦΕΤΕ ΨΗΦΙΑΚΑ. ΣΤΗ ΣΥΝΕΧΕΙΑ ΤΟ ΕΠΙΣΥΝΑΠΤΕΤΕ ΣΤΟΝ ΗΛΕΚΤΡΟΝΙΚΟ ΔΙΑΓΩΝΙΣΜΟ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51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1T11:27:17Z</dcterms:created>
  <dc:creator>ckonstantinidis</dc:creator>
  <dc:description/>
  <dc:language>en-US</dc:language>
  <cp:lastModifiedBy>ckonstantinidis</cp:lastModifiedBy>
  <dcterms:modified xsi:type="dcterms:W3CDTF">2020-06-15T06:03:14Z</dcterms:modified>
  <cp:revision>4</cp:revision>
  <dc:subject/>
  <dc:title>ΣΥΜΠΛΗΡΩΣΗ ΚΑΙ ΥΠΟΒΟΛΗ ΤΟΥ ΕΕΕΣ</dc:title>
</cp:coreProperties>
</file>