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993-AA64-4124-9180-BC068070136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EA0B-1B5B-4249-AA43-7F7200E8B5B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6FC-A55D-46FC-AFF2-B7567468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83B-3A76-4D44-8AEA-53A6DD6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6C1-DFB9-4941-97F9-98B0DD25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EDD-6AC5-4747-A7A0-6BEC0221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788-6126-4B41-B941-04ACEBCE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E38-ED94-46B2-9F9F-BCFFA03D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8E2-F88D-4F2E-904E-D3C830F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75C-C893-43F9-8E32-27EF2E84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392-F2BE-48ED-9511-C5C54F8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DA1-23CD-40AF-93AE-DFF18A0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9CD-A2FE-447C-B9D1-0417233D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7D1-CCCF-4549-B019-7FB2BBE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1947-6893-461F-A0EF-099D1FBD4752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L:\_Προσωρινά Αρχεία\Απολογισμος Δρασης\apologismos_drasis_teliko1.jpg"/>
          <p:cNvPicPr/>
          <p:nvPr/>
        </p:nvPicPr>
        <p:blipFill>
          <a:blip r:embed="rId1"/>
          <a:stretch/>
        </p:blipFill>
        <p:spPr>
          <a:xfrm>
            <a:off x="219564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981000"/>
          <a:ext cx="8640720" cy="5689800"/>
        </p:xfrm>
        <a:graphic>
          <a:graphicData uri="http://schemas.openxmlformats.org/drawingml/2006/table">
            <a:tbl>
              <a:tblPr/>
              <a:tblGrid>
                <a:gridCol w="555840"/>
                <a:gridCol w="2367000"/>
                <a:gridCol w="1382400"/>
                <a:gridCol w="1522440"/>
                <a:gridCol w="1430640"/>
                <a:gridCol w="1382400"/>
              </a:tblGrid>
              <a:tr h="73836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ή ΤΕΛΙΚΗ ΔΑΠΑΝ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6714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ασφαλτικού οδοστρώματος στο Βόρειο τμήμα της Π.Ε. Γρεβενών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ΑΜΙΔΗΣ ΙΩΑΝΝΗΣ &amp; ΣΙΑ Ε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.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.892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ασφαλτικού οδοστρώματος στο Νότιο τμήμα της Π.Ε. Γρεβενών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ΑΝΑΓΙΩΤΗΣ ΧΑΤΣΙΟΣ &amp; ΣΙΑ ΕΤ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40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τεχνικών έργων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ΑΜΙΔΗΣ ΙΩΑΝΝΗΣ &amp; ΣΙΑ Ε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18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ήμανση οδικού δικτύου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ΤΑΜΟΣ ΙΩΑΝΝΗΣ &amp; ΣΙΑ Ο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34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επισκευή οδοστρώματος επαρχιακού δικτύου Π.Ε. Γρεβενών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ΑΚΗΣ ΚΑΤΑΣΚΕΥΑΣΤΙΚΗ Ο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.2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10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ελτίωση μεμονωμένων τμημάτων επαρχιακού δικτύου Π.Ε. Γρεβεν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ΑΜΙΔΗΣ ΙΩΑΝΝΗΣ &amp; ΣΙΑ Ε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.7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οχιονισμός Επαρχιακού δικτύου Π.Ε. Γρεβενών χειμερινής περιόδου 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.453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.88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8.453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.188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  <p:sp>
        <p:nvSpPr>
          <p:cNvPr id="62" name="2 - Ορθογώνιο"/>
          <p:cNvSpPr/>
          <p:nvPr/>
        </p:nvSpPr>
        <p:spPr>
          <a:xfrm>
            <a:off x="1116000" y="1890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Ολοκλήρωση των φυσικών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αντικειμένων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των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συμβάσεων έτους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765000"/>
          <a:ext cx="8424720" cy="5834160"/>
        </p:xfrm>
        <a:graphic>
          <a:graphicData uri="http://schemas.openxmlformats.org/drawingml/2006/table">
            <a:tbl>
              <a:tblPr/>
              <a:tblGrid>
                <a:gridCol w="533160"/>
                <a:gridCol w="2270160"/>
                <a:gridCol w="1327320"/>
                <a:gridCol w="1450800"/>
                <a:gridCol w="1374840"/>
                <a:gridCol w="1468440"/>
              </a:tblGrid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ΟΛΟΙΠΟ ΠΡΟΣ ΠΛΗΡΩΜ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02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ασφαλτικού οδοστρώματος της Π.Ε. Γρεβενών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9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τεχνικών έργων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ΑΜΙΔΗΣ ΙΩΑΝΝΗΣ &amp; ΣΙΑ Ε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ήμανση οδικού δικτύου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95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οχιονισμός Επαρχιακού δικτύου Π.Ε. Γρεβενών χειμερινής περιόδου 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6.30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.30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.30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1.795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1692360" y="9720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Μελέτες προς Δημοπρά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4360" y="1125360"/>
          <a:ext cx="7343640" cy="4824720"/>
        </p:xfrm>
        <a:graphic>
          <a:graphicData uri="http://schemas.openxmlformats.org/drawingml/2006/table">
            <a:tbl>
              <a:tblPr/>
              <a:tblGrid>
                <a:gridCol w="465120"/>
                <a:gridCol w="1982520"/>
                <a:gridCol w="1158840"/>
                <a:gridCol w="1266840"/>
                <a:gridCol w="1200240"/>
                <a:gridCol w="1270080"/>
              </a:tblGrid>
              <a:tr h="120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2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σκευή οδού Συδένδρου με Επαρχιακή οδό Γρεβενών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ασυλλί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4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8.386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785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ελτίωση οδού από διασταύρωση Εθνικής οδού Γρεβενών Καλαμπάκας προς Δεσπότ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25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0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9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.386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785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2771640" y="3229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Νέες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Οδοποιί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835280" y="641520"/>
            <a:ext cx="69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Συγχρηματοδοτούμενα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Έργ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484280"/>
          <a:ext cx="8064360" cy="4322880"/>
        </p:xfrm>
        <a:graphic>
          <a:graphicData uri="http://schemas.openxmlformats.org/drawingml/2006/table">
            <a:tbl>
              <a:tblPr/>
              <a:tblGrid>
                <a:gridCol w="509400"/>
                <a:gridCol w="2178360"/>
                <a:gridCol w="1271520"/>
                <a:gridCol w="1392120"/>
                <a:gridCol w="1319400"/>
                <a:gridCol w="1393560"/>
              </a:tblGrid>
              <a:tr h="1284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98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σκευή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δού</a:t>
                      </a: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Μοναχίτι Μικρολίβαδ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36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124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5.826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σκευή Γέφυρας Πόρου Ν. Γρεβενώ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8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139.384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2.795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6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63.384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98.622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692360" y="154800"/>
            <a:ext cx="44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Τομέας   :    Σχολικά  κτίρ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00000" y="1268280"/>
          <a:ext cx="7344000" cy="4608720"/>
        </p:xfrm>
        <a:graphic>
          <a:graphicData uri="http://schemas.openxmlformats.org/drawingml/2006/table">
            <a:tbl>
              <a:tblPr/>
              <a:tblGrid>
                <a:gridCol w="465120"/>
                <a:gridCol w="1984680"/>
                <a:gridCol w="1191960"/>
                <a:gridCol w="1303560"/>
                <a:gridCol w="1128600"/>
                <a:gridCol w="1270080"/>
              </a:tblGrid>
              <a:tr h="79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93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ήρηση σχολείων Γρεβενώ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/Ξ  Γ.-Δ. ΛΙΑΚΟΣ Ο.Ε. - ΚΥΠΙΡΤΙΔΗΣ ΧΡΥΣΑΝΘ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.35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388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Σχολικών Κτιρίων Δήμου Δεσκάτη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ΑΒΟΣ ΚΩΝ/Ν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002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αμόρφωση αυλείου χώρου 2ου Γυμνασίου Γρεβενώ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ΑΚΗΣ ΚΑΤΑΣΚΕΥΑΣΤΙΚΗ Ο.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177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αμόρφωση αυλείου χώρου 1ου Γυμνασίου - Λυκείου Γρεβενώ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.35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.568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- Ορθογώνιο"/>
          <p:cNvSpPr/>
          <p:nvPr/>
        </p:nvSpPr>
        <p:spPr>
          <a:xfrm>
            <a:off x="1692360" y="6922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Προγραμματικές Συμβάσει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87280" y="1557360"/>
          <a:ext cx="6418440" cy="3960720"/>
        </p:xfrm>
        <a:graphic>
          <a:graphicData uri="http://schemas.openxmlformats.org/drawingml/2006/table">
            <a:tbl>
              <a:tblPr/>
              <a:tblGrid>
                <a:gridCol w="406440"/>
                <a:gridCol w="1733760"/>
                <a:gridCol w="1042920"/>
                <a:gridCol w="1138320"/>
                <a:gridCol w="987480"/>
                <a:gridCol w="1109520"/>
              </a:tblGrid>
              <a:tr h="103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216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σκευή τοίχου αντιστήριξης στον αύλειο χώρο του γυμνασίου Καρπερού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Σχολικών Κτιρίων Π.Ε. Γρεβενώ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- Ορθογώνιο"/>
          <p:cNvSpPr/>
          <p:nvPr/>
        </p:nvSpPr>
        <p:spPr>
          <a:xfrm>
            <a:off x="140328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Συντηρήσεις και επισκευές σε πολιτιστικά και θρησκευτικά μνημε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55640" y="1476360"/>
          <a:ext cx="7777080" cy="5048280"/>
        </p:xfrm>
        <a:graphic>
          <a:graphicData uri="http://schemas.openxmlformats.org/drawingml/2006/table">
            <a:tbl>
              <a:tblPr/>
              <a:tblGrid>
                <a:gridCol w="493560"/>
                <a:gridCol w="1978200"/>
                <a:gridCol w="1500120"/>
                <a:gridCol w="1379520"/>
                <a:gridCol w="1154160"/>
                <a:gridCol w="1271520"/>
              </a:tblGrid>
              <a:tr h="32868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66348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-Συντήρηση Μνημείων (ΙΕΡΟΣ ΝΑΟΣ ΑΓΙΩΝ ΠΑΝΤΩΝ ΚΡΑΝΙΑΣ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ΕΝΙΔΗΣ &amp; ΣΙΑ Ο.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Συντήρηση Μνημείων (Επισκευή Ιερού  Ναού Αγίου Νικολάου Κηπουρείου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ΡΑΒΟΣ ΑΛΕΞΑΝΔΡΟ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65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- συντήρηση μνημείων   (Επισκευή Ιερού  Ναού Κοιμήσεως Θεοτόκου Ροδιάς Γρεβενών ).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ΥΤΣΟΤΟΛΗΣ ΝΙΚΟΛΑΟ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08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4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Ι.Ν. Αγίου Αθανασίου Αηδονιών (Β' ΦΑΣΗ)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ΟΛΙΟΣ ΙΩΑΝΝΗ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0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Ι.Ν. Αγίου  Νικολάου στη Αετιά Γρεβενώ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ΤΕΛΜΑΣ ΚΩΝ/ΝΟ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4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οκατάσταση του πέτρινου σχολείου στο Δ.Δ. Σπηλαίο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ΩΣΤΑΣ ΙΩΑΝΝΗΣ Ε.Δ.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.631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.836,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κάλυψη τρούλου Ιερού Ναού Αγίου Γεωργίου Οροπεδίου Γρεβενώ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.00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.229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.647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68360" y="652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Κτιριακές επισκευ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628640"/>
          <a:ext cx="8208720" cy="4321440"/>
        </p:xfrm>
        <a:graphic>
          <a:graphicData uri="http://schemas.openxmlformats.org/drawingml/2006/table">
            <a:tbl>
              <a:tblPr/>
              <a:tblGrid>
                <a:gridCol w="520560"/>
                <a:gridCol w="2089080"/>
                <a:gridCol w="1582920"/>
                <a:gridCol w="1455480"/>
                <a:gridCol w="1217880"/>
                <a:gridCol w="1342800"/>
              </a:tblGrid>
              <a:tr h="122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09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- Συντήρηση Διοικητηρίο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ΡΒΟΥΝΗΣ ΑΘΑΝΑΣΙ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.669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σκευή - Συντήρηση Διοικητηρίου Γρεβενών Β' φάσ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. ΤΣΙΟΒΑΚΑΣ &amp; ΣΙΑ Ε.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.669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187280" y="1197000"/>
          <a:ext cx="7417080" cy="1728720"/>
        </p:xfrm>
        <a:graphic>
          <a:graphicData uri="http://schemas.openxmlformats.org/drawingml/2006/table">
            <a:tbl>
              <a:tblPr/>
              <a:tblGrid>
                <a:gridCol w="538200"/>
                <a:gridCol w="1982880"/>
                <a:gridCol w="1193760"/>
                <a:gridCol w="1303560"/>
                <a:gridCol w="1128600"/>
                <a:gridCol w="1270080"/>
              </a:tblGrid>
              <a:tr h="65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58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σκευή Βελτίωση αρδευτικών γεωφραγμάτων (Αμυγδαλιές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. ΧΑΤΣΙΟΣ &amp; ΣΙΑ Ε.Τ.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992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55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785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992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55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785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3203640" y="4428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alibri"/>
              </a:rPr>
              <a:t>Τομέας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800" spc="-1" strike="noStrike">
                <a:solidFill>
                  <a:srgbClr val="000000"/>
                </a:solidFill>
                <a:latin typeface="Calibri"/>
              </a:rPr>
              <a:t>Αρδευτ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87280" y="4160880"/>
          <a:ext cx="7561440" cy="2004840"/>
        </p:xfrm>
        <a:graphic>
          <a:graphicData uri="http://schemas.openxmlformats.org/drawingml/2006/table">
            <a:tbl>
              <a:tblPr/>
              <a:tblGrid>
                <a:gridCol w="479520"/>
                <a:gridCol w="2043360"/>
                <a:gridCol w="1226880"/>
                <a:gridCol w="1341360"/>
                <a:gridCol w="1162080"/>
                <a:gridCol w="1308240"/>
              </a:tblGrid>
              <a:tr h="81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64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ελτιώση Γεωφράγματος Δασοχωρίο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81" name="4 - Ορθογώνιο"/>
          <p:cNvSpPr/>
          <p:nvPr/>
        </p:nvSpPr>
        <p:spPr>
          <a:xfrm>
            <a:off x="3309840" y="35002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Δημοπράτηση έργ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908000" y="909720"/>
            <a:ext cx="460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484280"/>
          <a:ext cx="8064720" cy="4822920"/>
        </p:xfrm>
        <a:graphic>
          <a:graphicData uri="http://schemas.openxmlformats.org/drawingml/2006/table">
            <a:tbl>
              <a:tblPr/>
              <a:tblGrid>
                <a:gridCol w="511200"/>
                <a:gridCol w="2176560"/>
                <a:gridCol w="1273320"/>
                <a:gridCol w="1390320"/>
                <a:gridCol w="1319400"/>
                <a:gridCol w="1393920"/>
              </a:tblGrid>
              <a:tr h="14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Ύδρευση οικισμών Δήμου Ηρακλεωτών  Ν. Γρεβενών Τμήμα Ν. Γρεβενώ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5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1.835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7.371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ικισμός   «Πατώματ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ΚΚΙΝΟΣ ΑΤΕ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31.02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31.02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8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62.856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95.371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84" name="4 - Ορθογώνιο"/>
          <p:cNvSpPr/>
          <p:nvPr/>
        </p:nvSpPr>
        <p:spPr>
          <a:xfrm>
            <a:off x="2935440" y="76500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Συγχρηματοδοτούμενα Έργ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 flipV="1" rot="10800000">
            <a:off x="2556000" y="155412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ΟΙ ΣΤΟΧΟΙ ΜΑ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900000" y="2426040"/>
            <a:ext cx="82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ενεργοποίηση του τοπικού πληθυσμού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αναζωογόνηση των  χω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βελτίωση των υποδομ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υποστήριξη του τουριστικού προιόντος  κυρίως στις ορεινές περιοχ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042920" y="1197000"/>
          <a:ext cx="7705800" cy="1800360"/>
        </p:xfrm>
        <a:graphic>
          <a:graphicData uri="http://schemas.openxmlformats.org/drawingml/2006/table">
            <a:tbl>
              <a:tblPr/>
              <a:tblGrid>
                <a:gridCol w="488880"/>
                <a:gridCol w="2081520"/>
                <a:gridCol w="1250640"/>
                <a:gridCol w="1366920"/>
                <a:gridCol w="1184400"/>
                <a:gridCol w="1333440"/>
              </a:tblGrid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60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στασία γέφυρας και πρανών στο Σαμαρνιώτικο ρέμ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ΓΝΑΤΙΑ ΑΤΕΒ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36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36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1619280" y="40248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Τομέας Αντιπλημμυρ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42920" y="4221000"/>
          <a:ext cx="7705800" cy="2016360"/>
        </p:xfrm>
        <a:graphic>
          <a:graphicData uri="http://schemas.openxmlformats.org/drawingml/2006/table">
            <a:tbl>
              <a:tblPr/>
              <a:tblGrid>
                <a:gridCol w="488880"/>
                <a:gridCol w="2081520"/>
                <a:gridCol w="1250640"/>
                <a:gridCol w="1366920"/>
                <a:gridCol w="1184400"/>
                <a:gridCol w="1333440"/>
              </a:tblGrid>
              <a:tr h="75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ΙΤΛΟΣ ΕΡΓ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ΔΟΧ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ΥΠ/ΣΜΟ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ΣΟ ΣΥΜΒΑΣΗ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ΕΣ ΠΛΗΡΩΜ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681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στασία γέφυρας Πηγαδίτσ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  <p:sp>
        <p:nvSpPr>
          <p:cNvPr id="88" name="4 - Ορθογώνιο"/>
          <p:cNvSpPr/>
          <p:nvPr/>
        </p:nvSpPr>
        <p:spPr>
          <a:xfrm>
            <a:off x="3309840" y="35002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Δημοπράτηση έργ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418040"/>
            <a:ext cx="8642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Δ /νση Αγροτικής Οικονομίας</a:t>
            </a:r>
            <a:br>
              <a:rPr sz="4000"/>
            </a:b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 και </a:t>
            </a:r>
            <a:br>
              <a:rPr sz="4000"/>
            </a:b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Κτηνιατρική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Οικονομικές ενισχύσεις που χορηγήθηκαν το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1341360"/>
            <a:ext cx="7428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Σχέδια βελτίωση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2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.070.890,00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Βιολογική Γεωργία 2012 (ενστάσεις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213.144,76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ιολογική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Γεωργία 201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1.840.377,87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Βιολογική Κτηνοτροφία 20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589.811,35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Υπόλοιπα Νέων Αγροτώ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90.000,00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Ξηρικές Καλλιέργειες, Αμειψισπορά κλπ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183.000,00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Αγροτικός Εξηλεκτρισμό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7.937,20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Ηλεκτροφόρες Περιφράξεις-Αντικατάσταση κυψελώ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10.689,86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9.    Ενισχύσεις από προγράμματα Κτηνιατρική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9.757,00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10.  Ενιαία ενίσχυσ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                         ≈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8.000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€  (προκαταβολή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.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ξισωτική αποζημίωση                       (πληρώθηκαν και παλαιότερα έτη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ΓΕΝΙΚΟ ΣΥΝΟΛ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5.015.638,04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360" y="189360"/>
            <a:ext cx="6048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Τμήμα Φυτικής  &amp; Ζωικής Παραγωγή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άδειες εγκατάστασης κτηνοτροφικών εγκαταστάσεων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σωρινές  άδειες εγκατάστασης κτηνοτροφικών   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λεγχοι αγοράς κρέατος:  Έλεγχοι κλιμακίου  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Γεωργικά μηχανήματα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Εκθέσεις λειτουργικότητα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αξινομήσει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Μεταβιβάσεις  άδειας κυκλοφορίας γεωργικών μηχανημάτων 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Εκδόσεις νέας άδειας κυκλοφορίας γεωργικών μηχανημάτων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αραλαβή από αγρότες  πινακίδων και τριγώνων γεωργικών ελκυστήρων   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ποστολή φακέλων γεωργικών μηχανημάτων 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ξετάσεις αδειών οδήγησης γεωργικών ελκυστήρων  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κδόσεις νέων αδειών οδήγηση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εωρήσεις άδειας οδήγησης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τικατάσταση αδειών οδήγησης    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εωρήσεις αδειών κυκλοφορίας γεωργικών μηχανημάτων σιλό    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539640" y="739800"/>
            <a:ext cx="8353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Αγροτικός εξηλεκτρισμός  εντάξεις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ν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ς προγράμματος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κ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ς προγράμματος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πληρωμέ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7937,2 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Πρόγραμμα εδαφολογικών αναλύσεων και λιπάνσεω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Αιτήσεις καλλιεργητών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Αυτοαναλύσεις που έγιναν   1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Πρόγραμμα Σχεδίων Βελτίωση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Διεκπεραίωση φακέλων πληρωμής  Σχεδίων  Βελτίωση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Πρόγραμμα Νέων Αγροτών 2015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Έλεγχος τήρησης μακροχρονίων υποχρεώσεων Νέων Αγροτών :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Ελέχθησαν και στάλθηκαν για πληρωμή  φάκελοι Νέων Γεωργών ( 2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ης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και 3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ης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δόσης).  20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Πληρώθηκαν 15 δικαιούχοι , συνολικά  900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Βιολογική Γεωργί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Διοικητικός έλεγχος  αιτήσεων πληρωμής και ηλεκτρονική καταχώρησ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6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Βιολογική Κτηνοτροφία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Υποβολή νέων  93 αιτήσεων πληρωμή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Τμήμα Τοπογραφίας - Επικοισμού - Αναδασμο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ρόσκληση για την επιτροπή αναδασμού αγροκτήματος Εξάρχο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υνεδρίαση επιτροπής αναδασμού Εξάρχο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Λήψη στοιχείων για την σύνταξη του κτηματολογικού πίνακα αναδασμού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γροκτήματος Εξάρχου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πόφαση κήρυξης αναδασμού στο αγρόκτημα Πηγαδίτσ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ύνταξη πίνακα κληρούχων Πηγαδίτσ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5832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Μελισσοκομία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2997360"/>
            <a:ext cx="7701120" cy="29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κδόσεις  Νέων Μελισσοκομικών Βιβλιαρίων  :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Δεκαπέντε ( 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εωρήσεις  Μελισσοκομικών Βιβλιαρίων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Τριάντα πέντε ( 3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49320" y="212760"/>
            <a:ext cx="9242640" cy="6694560"/>
          </a:xfrm>
          <a:prstGeom prst="rect">
            <a:avLst/>
          </a:prstGeom>
          <a:ln w="0">
            <a:noFill/>
          </a:ln>
        </p:spPr>
      </p:pic>
      <p:sp>
        <p:nvSpPr>
          <p:cNvPr id="100" name="2 - Ορθογώνιο"/>
          <p:cNvSpPr/>
          <p:nvPr/>
        </p:nvSpPr>
        <p:spPr>
          <a:xfrm>
            <a:off x="2124000" y="0"/>
            <a:ext cx="47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χεδιασμός Αρδευτικών Έργω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alibri"/>
              </a:rPr>
              <a:t>Τμήμα Κτηνιατρικ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Αιμοληψίες για έλεγχο Βρουκέλλωσης Βοοειδώ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Έλεγχος Βρουκέλλωσης Βοοειδών με Γαλακτοληψίε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Φυματινισμοί Βοοειδώ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9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Αιμοληψίες Ενζωοτικής Λεύκωσης Βοοειδώ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37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Εμβολιασμοί Βρουκέλλωσης (REV-1) Αιγοπροβάτω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128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Λήψη και αποστολή δειγμάτων εγκεφαλικού ιστού Αιγοπροβάτων (σφαγέντων) για Μ.Σ.Ε.    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205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Έκδοση Υγειονομικών πιστοποιητικών διακίνησης βοοειδών-αιγοπροβάτων-χοίρων-ίππων για σφαγή, πάχυνση και αναπαραγωγ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11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Πιστοποιητικά καταλληλότητα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14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Έκδοση Υγειονομικών πιστο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διακίνησης τροφίμων ζωικής προέλευσης για εξαγωγ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1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Έκδοση διαβατηρίων βοοειδώ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11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Χορήγηση εγκρίσεων για προμήθεια ενωτίων βοοειδών, χοιροειδών και αιγοπροβάτων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90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Κρεοσκοπικοί έλεγχοι σφαγείου Γρεβενών S-129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Κρεοσκοπικοί έλεγχοι σφαγείου Δεσκάτης S-1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Κρεοσκοπικοί έλεγχοι πτηνοσφαγείο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Αστυκτηνιατρικοί έλεγχοι σε καταστήματ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Καταστήματα που ελέγχθηκα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Πρωτόκολλα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69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Συμμετοχή σε σεμινάρι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ΑΠΟΛΟΓΙΣΜΟΣ (Π.Ο.Ε.) ΠΕΡΙΦΕΡΕΙΑΚΟ ΟΡΓΑΝΟ ΕΛΕΓΧ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 flipV="1" rot="10800000">
            <a:off x="2411280" y="168012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ΆΞΟΝΕΣ ΑΝΑΠΤΥΞΗ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9280" y="23799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Άξονας 1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ος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Προστασία – Ανάδειξη και ορθολογική διαχείριση των φυσικών πόρ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Άξονας 2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ος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Βελτίωση της ποιότητας ζωής των κατοίκ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Άξονας 3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ος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Αναβάθμιση ανθρώπινου δυναμικ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Άξονας 4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ος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Βελτίωση της απασχόλησης και οικονομική ανάπτυξ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l-GR" sz="1600" spc="-1" strike="noStrike" u="sng">
                <a:solidFill>
                  <a:srgbClr val="000000"/>
                </a:solidFill>
                <a:uFillTx/>
                <a:latin typeface="Calibri"/>
              </a:rPr>
              <a:t>ΈΛΕΓΧΟΣ ΕΠΕΝΔΥΤΙΚΩΝ ΣΧΕΔΙΩΝ Ν.3908/2011 ΑΠΟ 01/01/2014 ΕΩΣ 27/01/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68320"/>
          <a:ext cx="9109080" cy="5497560"/>
        </p:xfrm>
        <a:graphic>
          <a:graphicData uri="http://schemas.openxmlformats.org/drawingml/2006/table">
            <a:tbl>
              <a:tblPr/>
              <a:tblGrid>
                <a:gridCol w="693720"/>
                <a:gridCol w="2171880"/>
                <a:gridCol w="3219120"/>
                <a:gridCol w="302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/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ΗΜ.ΟΡΙΣΜΟΥ Π.Ο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ΟΜΕ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ΙΣΤΟΠΟΙΗΜΕΝΟ  ΠΟΣΟ ΣΕ ΕΥΡ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/01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ετεγκατάσταση μονάδας παραγωγής σκυροδέματος και ασφαλτομείγματο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.319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03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Ίδρυση μονάδας εκτροφής γουνοφόρων ζώω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.858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/03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Ίδρυση μονάδας εκτροφής γουνοφόρων ζώω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.318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/05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Ίδρυση μονάδας εκτροφής γουνοφόρων ζώω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211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9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συγχρονισμός και επέκταση γεωργικής επιχείρησης βιολογικής καλλιέργεια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7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Ίδρυση μονάδας εκτροφής γουνοφόρων ζώω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27.37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/06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Ίδρυση μονάδας εκτροφής γουνοφόρων ζώω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.989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/1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συγχρονισμός και επέκταση γεωργικής επιχείρησης βιολογικής καλλιέργεια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ΟΛΟ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ΕΠΕΝΔΥΤΙΚ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63.968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6" name="4 - Ορθογώνιο"/>
          <p:cNvSpPr/>
          <p:nvPr/>
        </p:nvSpPr>
        <p:spPr>
          <a:xfrm flipV="1" rot="10800000">
            <a:off x="1547640" y="6389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ΣΗΜΕΙΩΣΗ : ΣΕ ΕΞΕΛΙΞΗ ΑΚΟΜΗ 9 ΕΠΕΝΔΥΤΙΚΑ ΣΧΕΔ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539640" y="2066040"/>
            <a:ext cx="822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Τμήμα Περιβάλλοντος και Υδροοικονομί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95280" y="189000"/>
          <a:ext cx="8424720" cy="6335640"/>
        </p:xfrm>
        <a:graphic>
          <a:graphicData uri="http://schemas.openxmlformats.org/drawingml/2006/table">
            <a:tbl>
              <a:tblPr/>
              <a:tblGrid>
                <a:gridCol w="4762440"/>
                <a:gridCol w="1832040"/>
                <a:gridCol w="1830240"/>
              </a:tblGrid>
              <a:tr h="3045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οβλήθηκα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εκπεραιώθηκα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΄Εγκριση Περιβαλλοντικών όρ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αλλαγή από περιβαλλοντική αδειοδότησ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ταγγελί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νωμοδοτήσεις – Εισηγήσεις προς Περιφερειακό Συμβούλι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ενέργεια Ελέγχων και Αυτοψιώ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οστολή τεχνικών εκθέσεω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οβολή απόψεων επί των τεχνικών εκθέσε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οβολή Προσφυγής επί της Απόφασης επιβολής  προστίμ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όψεις επί προσφυγή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ισηγήσεις και Αποφάσεις επιβολής Προστίμ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el-GR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el-GR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οστολή καταστάσεων και καταλόγων βεβαίωσης προστίμ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λέτες γεωλογικής καταλληλότη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κτέλεση προγράμματος ελέγχου αρδευτικών υδάτ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΄Ελεγχος επιφανειακών υδάτων από μόλυνση υγρών αποβλήτω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ισερχόμενα έγγραφα προς ενέργε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ισερχόμενα έγγραφα προς ενημέρωση &amp; αρχειοθέτησ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μμετοχή στη σύσκεψη Επιτροπής Σταυλισμού &amp; αυτοψίες για τη χορήγηση αδειών εγκατάστασης σε κτηνοτροφικές μονάδε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ύνολ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ΠΑΡΑΡΤΗΜΑ ΑΠΟΛΟΓΙΣΜΟΥ</a:t>
            </a:r>
            <a:br>
              <a:rPr sz="4400"/>
            </a:b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(Ανά υπηρεσιακή μονάδ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Δ/ΝΣΗ ΔΙΟΙΚΗΤΙΚΟΥ-ΟΙΚΟΝΟΜΙΚΟΥ  Π.Ε. ΓΡΕΒΕΝΩΝ</a:t>
            </a:r>
            <a:br>
              <a:rPr sz="4000"/>
            </a:b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ΟΙΚΟΝΟΜΙΚΟΣ ΑΠΟΛΟΓ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 u="sng">
                <a:solidFill>
                  <a:srgbClr val="000000"/>
                </a:solidFill>
                <a:uFillTx/>
                <a:latin typeface="Calibri"/>
              </a:rPr>
              <a:t>ΔΙΟΙΚΗΤΙΚΟΣ - ΟΙΚΟΝΟΜΙΚΟΣ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500" spc="-1" strike="noStrike" u="sng">
                <a:solidFill>
                  <a:srgbClr val="000000"/>
                </a:solidFill>
                <a:uFillTx/>
                <a:latin typeface="Calibri"/>
              </a:rPr>
              <a:t>ΑΠΟΛΟΓΙΣΜΟΣ </a:t>
            </a:r>
            <a:br>
              <a:rPr sz="2500"/>
            </a:br>
            <a:r>
              <a:rPr b="1" lang="el-GR" sz="2500" spc="-1" strike="noStrike" u="sng">
                <a:solidFill>
                  <a:srgbClr val="000000"/>
                </a:solidFill>
                <a:uFillTx/>
                <a:latin typeface="Calibri"/>
              </a:rPr>
              <a:t>ΕΤΟΥΣ 2015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28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A.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</a:rPr>
              <a:t>ΕΣΟΔ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</a:rPr>
              <a:t>ΠΡΟΫΠΟΛΟΓΙΣΘΕΝΤΑ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</a:rPr>
              <a:t>ΒΕΒΑΙΩΘΕΝΤΑ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40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040,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446.143,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 Ν Α Λ Υ Σ 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ΚΟΙ                                                                             55720,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ΛΕΤΕΣ ΕΡΓΩΝ                                                        60.0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Π 005/8 (ΕΣΠΑ)                                             2.023.581,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ΡΑΤΙΚΟΣ ΠΡΟΫΠΟΛΟΓΙΣΜΟΣ                                 60.256,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Π (ΥΠ.ΕΣ.)                                                       1.050.0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ΕΛΟΣ ΜΕΤΑΒΙΒΑΣΗΣ                                               84.689,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ΟΙΚΙΑ                                                                        4.905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ΚΤΑΚΤΑ                                                                           314,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Π                                                                      1.924.451,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ιατροφικό επίδομα                                            203.0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ειτουργικές δαπάνες                                         624.0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ταφορά μαθητών                                        1.097.451,35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ΑΜΕΙΑΚΟ ΥΠΟΛΟΙΠΟ 2014                             14.182.226,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- Ορθογώνιο"/>
          <p:cNvSpPr/>
          <p:nvPr/>
        </p:nvSpPr>
        <p:spPr>
          <a:xfrm>
            <a:off x="971640" y="620640"/>
            <a:ext cx="7200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</a:rPr>
              <a:t>Β.ΕΞΟΔΑ</a:t>
            </a:r>
            <a:r>
              <a:rPr b="1" lang="el-GR" sz="2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</a:rPr>
              <a:t>ΔΙΑΜΟΡΦΩΜΕΝΟ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</a:rPr>
              <a:t>ΕΝΤΑΛΘΕΝ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404.040,5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494.404,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ΝΑΛΥ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ΗΜΑΤΙΚΑ ΕΝΤΑΛΜΑΤΑ : 74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1.    ΔΗΜΟΣΙΕΣ ΕΠΕΝΔΥΣΕΙΣ                                    5.957.773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ΤΑΚΙΝΗΣΕΙΣ                                                         36.04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Π 005/8 (ΕΣΠΑ)                                            2.490.085,93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Π                                                                        648.355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ΥΓΕΙΑ                                                                          24.108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 205 (ΕΠΑΔΥΜ)                                                155.510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Ε 440 (ΠΙΝΔΟΣ)                                                 126.437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ΣΚ ΣΑΕΠ 041                                                          89.749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2.    ΛΕΙΤΟΥΡΓΙΚΕΣ ΔΑΠΑΝΕΣ                                       683614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ΥΠΗΡΕΣΙΕΣ                                                             469.722,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ΜΗΘΕΙΕΣ                                                        141.817,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ΟΙΠΕΣ ΔΑΠΑΝΕΣ                                                   54.61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ΙΚΑ                                                                             17.463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765000"/>
          <a:ext cx="7272360" cy="5257800"/>
        </p:xfrm>
        <a:graphic>
          <a:graphicData uri="http://schemas.openxmlformats.org/drawingml/2006/table">
            <a:tbl>
              <a:tblPr/>
              <a:tblGrid>
                <a:gridCol w="3636720"/>
                <a:gridCol w="3635640"/>
              </a:tblGrid>
              <a:tr h="46224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 Κ.Α.Π. Δ.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18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ΠΡΟΓΡΑΜΜΑ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63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792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ΥΓΕΙΑ  ΔΙΑΤΡΟΦΙΚΟ                 ΕΠΙΔΟΜ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158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ΜΕΤΑΦΟΡΑ ΜΑΘΗ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28600" indent="-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7.606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Δ/ΝΣΗ ΤΕΧΝΙΚΩΝ ΥΠΗΡΕΣ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0:37:18Z</dcterms:created>
  <dc:creator>ppke1</dc:creator>
  <dc:description/>
  <dc:language>en-US</dc:language>
  <cp:lastModifiedBy>kmimikos</cp:lastModifiedBy>
  <dcterms:modified xsi:type="dcterms:W3CDTF">2016-01-29T13:17:30Z</dcterms:modified>
  <cp:revision>91</cp:revision>
  <dc:subject/>
  <dc:title>ΠΑΡΑΡΤΗΜΑ ΑΠΟΛΟΓΙΣΜΟΥ (Ανά υπηρεσιακή μονάδα)</dc:title>
</cp:coreProperties>
</file>